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320-DC12-4055-811F-F1E69190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A2C-366D-48DD-881B-D587F3EF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BE4-8AB5-4AD6-A299-15A27CA5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475-97F6-409D-80A0-D1EA883A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0E2A-3FBE-4A36-BC59-BCC05629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8EAF-64A8-46EA-8DAD-C727834A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157F-9296-45A6-B1D9-56E24D9F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3034-CE3B-4FCA-973D-B54289F3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A8F6-33E0-4926-9C54-34874CB1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3DE3-F32B-45FA-8A29-B4B8638A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866A-72CC-4E9D-95FC-347B9751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934-ECCB-45D9-B896-C2949992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CAEC-743F-4AD2-93F5-DB4418B2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5BF1-6690-4945-A4BA-7C3F3018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60DF-FB73-4DF5-B0C0-C748ED99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0A45-48AB-40AD-BD7E-A3128571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B46A-E982-4EE2-9319-F8BCD196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E73-CF74-4565-90BA-48A4389F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DAE-ED6A-477F-942E-3DA9985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902-07DD-4933-93AA-0551CAF0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0E3-9579-4583-909F-CE6D7F40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877-92FB-45DE-B4D6-3F597CA0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740-B394-4CC0-AEF3-8FEB9DB9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B84-1179-424F-8F57-3FD09B0C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8607-CF09-4FB1-BB0F-FAF4AE07C4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74C8-DA64-43CE-8038-8DE0B1B845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../../../aaa/&#26700;&#38754;/013.pp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隶书"/>
              </a:rPr>
              <a:t>第十五章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1447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病情观察及危重病人的抢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隶书"/>
              </a:rPr>
              <a:t>巨人症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15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国际队主力中锋穆铁柱                          土耳其阿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127400" cy="53341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3343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侏儒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914400" y="952560"/>
            <a:ext cx="76201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181320" cy="47242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251160" y="838080"/>
            <a:ext cx="58928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892160" cy="21718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3048120" y="1523880"/>
            <a:ext cx="6095880" cy="45529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隶书"/>
              </a:rPr>
              <a:t>面容与表情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健康人表情自然、神态安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疾病时通常表现为痛苦、忧虑、疲惫或烦躁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急性病容：面色潮红，兴奋不安，鼻翼扇动，呼吸急促，口唇疮疹，表情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见于大叶性肺炎、疟疾等急性热病病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2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隶书"/>
              </a:rPr>
              <a:t>慢性病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：面色苍白或灰暗，面容憔悴，目光暗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见于恶性肿瘤后期、慢性肝病、结核病等慢性消耗性疾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  <a:ea typeface="隶书"/>
              </a:rPr>
              <a:t>病危面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：面容枯槁，面色苍白或铅灰，表情淡漠，双目无神，眼眶凹陷，鼻骨嵴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常见于严重休克、大出血、脱水、急性腹膜炎等严重疾病的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504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隶书"/>
              </a:rPr>
              <a:t>二尖瓣面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：双颊紫红，口唇发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常见于风湿性心脏病的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  <a:ea typeface="隶书"/>
              </a:rPr>
              <a:t>贫血面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：面色苍白，唇舌及结膜色淡，表情疲惫乏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见于各种类型的贫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81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课程内容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5790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病情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危重病人的抢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甲亢面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面容惊愕，眼裂增大，眼球凸出，目光闪烁，兴奋，烦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见于甲状腺功能亢进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73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体位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动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动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迫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隶书"/>
              </a:rPr>
              <a:t>姿势与步态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摇摆步态                   剪刀步态                           蹒跚步态                        共济失调步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828800" cy="30193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7486560" y="1523880"/>
            <a:ext cx="1657440" cy="29718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2057400" y="1523880"/>
            <a:ext cx="2190600" cy="28576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4572000" y="1523880"/>
            <a:ext cx="2540160" cy="28958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5"/>
          <a:stretch/>
        </p:blipFill>
        <p:spPr>
          <a:xfrm>
            <a:off x="0" y="9907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1295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睡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皮肤与粘膜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颜色、温度、湿度、弹性及有无出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肿、皮疹、皮下结节、囊肿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呕吐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呕吐的次数、时间、方式及呕吐物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状、量、色、气味及伴随症状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1522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呕吐物的观察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e40000"/>
                </a:solidFill>
                <a:latin typeface="宋体"/>
              </a:rPr>
              <a:t>时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清晨—妊娠呕吐； 夜晚或凌晨—幽门梗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e40000"/>
                </a:solidFill>
                <a:latin typeface="宋体"/>
              </a:rPr>
              <a:t>方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中枢性呕吐—不伴随恶心，呕吐呈喷射状，常 见 脑肿瘤、膈脑炎、脑膜炎等颅内压升高的病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射性呕吐（消化道疾病所致）—与进食有关，发生时间有规律性，呕吐物中可发现致病菌，且呕吐后可缓解不适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e40000"/>
                </a:solidFill>
                <a:latin typeface="宋体"/>
              </a:rPr>
              <a:t>性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幽门梗阻—宿食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位小肠梗阻者—伴胆汁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霍乱，、副霍乱—米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e40000"/>
                </a:solidFill>
                <a:latin typeface="宋体"/>
              </a:rPr>
              <a:t>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成人胃容量约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如呕吐物超过胃容量，应考虑有无幽门梗阻或常情况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呕吐物的观察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</a:rPr>
              <a:t>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鲜红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—急性大出血时；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咖啡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—陈旧性出血或出血相对缓慢；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黄绿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—胆汁反流入胃；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暗灰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—胃内容物有腐败性改变且滞留在胃内时                          间较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6)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</a:rPr>
              <a:t>气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普通呕吐物—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酸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胃内出血者—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碱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         含有大量胆汁—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苦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幽门梗阻—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腐臭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         肠梗阻—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粪臭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有机磷农药中毒—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大蒜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7)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</a:rPr>
              <a:t>伴随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伴腹痛、腹泻—急性胃肠炎、食物中毒；喷射状呕吐伴剧烈头痛—颅内高压；                   呕吐伴眩晕及眼球震颤—前庭功能障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排泄物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性状、量、色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味、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3430440" cy="35812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5000760" y="0"/>
            <a:ext cx="414324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隶书"/>
                <a:ea typeface="隶书"/>
              </a:rPr>
              <a:t>（二）生命体征的观察</a:t>
            </a:r>
            <a:r>
              <a:rPr b="0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包括对体温、脉搏、呼吸、血压、脉搏氧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度的监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343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教学目标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掌握常用抢救技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熟悉病情观察的方法、病情观察的内容、抢救工作的组织管理与抢救设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了解病情观察的意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（三）中心静脉压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心静脉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V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 是胸腔内上、下腔静脉的压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上、下腔静脉或右心房内置管测得，它是临床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察血液动力学的主要指标之一，测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V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了解有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循环血容量和右心功能有重要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常值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-12cmH2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-5cmH2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右心房充盈不佳或血容量不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-20cmH2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提示右心功能不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（四）意识状态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识：是大脑高级神经中枢功能活动的综合表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对环境的知觉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识障碍：是指个体对外界环境刺激缺乏正常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种精神状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嗜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识模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严重程度分   昏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浅昏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昏迷   中度昏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深昏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819520" y="38862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240 h 2209680"/>
              <a:gd name="textAreaBottom" fmla="*/ 2098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39"/>
                  <a:pt x="10800" y="3477"/>
                </a:cubicBezTo>
                <a:lnTo>
                  <a:pt x="10800" y="7323"/>
                </a:lnTo>
                <a:cubicBezTo>
                  <a:pt x="10800" y="9062"/>
                  <a:pt x="5400" y="10800"/>
                  <a:pt x="0" y="10800"/>
                </a:cubicBezTo>
                <a:cubicBezTo>
                  <a:pt x="5400" y="10800"/>
                  <a:pt x="10800" y="12539"/>
                  <a:pt x="10800" y="14277"/>
                </a:cubicBezTo>
                <a:lnTo>
                  <a:pt x="10800" y="18123"/>
                </a:lnTo>
                <a:cubicBezTo>
                  <a:pt x="10800" y="19862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86200" y="52578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8760 h 1371600"/>
              <a:gd name="textAreaBottom" fmla="*/ 130284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39"/>
                  <a:pt x="10800" y="3477"/>
                </a:cubicBezTo>
                <a:lnTo>
                  <a:pt x="10800" y="7323"/>
                </a:lnTo>
                <a:cubicBezTo>
                  <a:pt x="10800" y="9062"/>
                  <a:pt x="5400" y="10800"/>
                  <a:pt x="0" y="10800"/>
                </a:cubicBezTo>
                <a:cubicBezTo>
                  <a:pt x="5400" y="10800"/>
                  <a:pt x="10800" y="12539"/>
                  <a:pt x="10800" y="14277"/>
                </a:cubicBezTo>
                <a:lnTo>
                  <a:pt x="10800" y="18123"/>
                </a:lnTo>
                <a:cubicBezTo>
                  <a:pt x="10800" y="19862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671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嗜睡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度的意识障碍，处于持续睡眠状态，能被言语或轻度刺激唤醒，醒后能正确、简单而缓慢地回答问题，反应迟钝，刺激去除后又很快入睡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732640" y="3048120"/>
            <a:ext cx="3411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意识模糊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现为思维和语言不连贯，对时间、地点、人物的定向力完全或部分发生障碍，有错觉、幻觉、躁动不安、谵语或精神错乱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5810400" y="4048200"/>
            <a:ext cx="3333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昏睡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人处熟睡状态，难唤醒。压迫眶上神经、摇动身体等强刺激可被唤醒，答话含糊或答非所问，停止刺激后即又进入熟睡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4572000" y="3311640"/>
            <a:ext cx="4572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昏迷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种大脑深度无意识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严重的意识障碍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为：浅昏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度昏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昏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962520" y="2711520"/>
            <a:ext cx="51814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浅昏迷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人意识大部分丧失，无自主运动，对声、光刺激无反应，对疼痛刺激可有痛苦表情及躲避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瞳孔对光反射、角膜反射、眼球运动、吞咽反射、咳嗽反射等可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明显变化，可有大小便失禁或尿潴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中度昏迷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人对周围事物及各种刺激无反应，压眶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有痛苦表情，角膜反射减弱，瞳孔对光反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迟钝、眼球无转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深昏迷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人意识完全丧失，对各种刺激均无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身肌肉松弛，机体呈弛缓状态，深浅反射均消失，偶有深反射亢进及病理反射出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现不规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降，大、小便失禁或尿潴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-2379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0" y="971640"/>
            <a:ext cx="9143280" cy="647640"/>
            <a:chOff x="0" y="971640"/>
            <a:chExt cx="9143280" cy="647640"/>
          </a:xfrm>
        </p:grpSpPr>
        <p:grpSp>
          <p:nvGrpSpPr>
            <p:cNvPr id="618" name=""/>
            <p:cNvGrpSpPr/>
            <p:nvPr/>
          </p:nvGrpSpPr>
          <p:grpSpPr>
            <a:xfrm>
              <a:off x="0" y="1276560"/>
              <a:ext cx="9143280" cy="42840"/>
              <a:chOff x="0" y="1276560"/>
              <a:chExt cx="9143280" cy="4284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1319400"/>
                <a:ext cx="9128880" cy="0"/>
              </a:xfrm>
              <a:prstGeom prst="line">
                <a:avLst/>
              </a:prstGeom>
              <a:ln w="507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4040" y="1276560"/>
                <a:ext cx="9129240" cy="0"/>
              </a:xfrm>
              <a:prstGeom prst="line">
                <a:avLst/>
              </a:prstGeom>
              <a:ln w="50760">
                <a:solidFill>
                  <a:srgbClr val="99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8285400" y="971640"/>
              <a:ext cx="642960" cy="647640"/>
              <a:chOff x="8285400" y="971640"/>
              <a:chExt cx="642960" cy="647640"/>
            </a:xfrm>
          </p:grpSpPr>
        </p:grpSp>
      </p:grpSp>
      <p:graphicFrame>
        <p:nvGraphicFramePr>
          <p:cNvPr id="622" name=""/>
          <p:cNvGraphicFramePr/>
          <p:nvPr/>
        </p:nvGraphicFramePr>
        <p:xfrm>
          <a:off x="380880" y="685800"/>
          <a:ext cx="8353440" cy="6033960"/>
        </p:xfrm>
        <a:graphic>
          <a:graphicData uri="http://schemas.openxmlformats.org/drawingml/2006/table">
            <a:tbl>
              <a:tblPr/>
              <a:tblGrid>
                <a:gridCol w="1544760"/>
                <a:gridCol w="3440160"/>
                <a:gridCol w="33685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楷体_GB2312"/>
                          <a:ea typeface="楷体_GB2312"/>
                        </a:rPr>
                        <a:t>浅 昏 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楷体_GB2312"/>
                          <a:ea typeface="楷体_GB2312"/>
                        </a:rPr>
                        <a:t>深 昏 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及随意运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部分丧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无自主运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完全丧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全身肌 肉处于松弛状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外界刺激的反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光刺激均无反应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但对 </a:t>
                      </a:r>
                      <a:r>
                        <a:rPr b="1" lang="zh-CN" sz="2400" spc="-1" strike="noStrike">
                          <a:solidFill>
                            <a:srgbClr val="ff3399"/>
                          </a:solidFill>
                          <a:latin typeface="楷体_GB2312"/>
                          <a:ea typeface="楷体_GB2312"/>
                        </a:rPr>
                        <a:t>疼痛刺激有防御性屈曲</a:t>
                      </a:r>
                      <a:r>
                        <a:rPr b="1" lang="zh-CN" sz="2400" spc="-1" strike="noStrike">
                          <a:solidFill>
                            <a:srgbClr val="ff3399"/>
                          </a:solidFill>
                          <a:latin typeface="楷体_GB2312"/>
                          <a:ea typeface="楷体_GB2312"/>
                        </a:rPr>
                        <a:t>.</a:t>
                      </a:r>
                      <a:r>
                        <a:rPr b="1" lang="zh-CN" sz="2400" spc="-1" strike="noStrike">
                          <a:solidFill>
                            <a:srgbClr val="ff3399"/>
                          </a:solidFill>
                          <a:latin typeface="楷体_GB2312"/>
                          <a:ea typeface="楷体_GB2312"/>
                        </a:rPr>
                        <a:t>压 迫眶上神经有痛苦表情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外界各种刺激 均无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11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深浅反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</a:t>
                      </a:r>
                      <a:r>
                        <a:rPr b="1" lang="zh-CN" sz="2400" spc="-1" strike="noStrike">
                          <a:solidFill>
                            <a:srgbClr val="ff3399"/>
                          </a:solidFill>
                          <a:latin typeface="楷体_GB2312"/>
                          <a:ea typeface="楷体_GB2312"/>
                        </a:rPr>
                        <a:t>种反射均存在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如吞咽咳 嗽、角膜反射、以及瞳 孔对光反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深浅反射均消失 ，偶有深反射亢进 及病理反射出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11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命体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99"/>
                          </a:solidFill>
                          <a:latin typeface="楷体_GB2312"/>
                          <a:ea typeface="楷体_GB2312"/>
                        </a:rPr>
                        <a:t>P.R.BP</a:t>
                      </a:r>
                      <a:r>
                        <a:rPr b="1" lang="zh-CN" sz="2400" spc="-1" strike="noStrike">
                          <a:solidFill>
                            <a:srgbClr val="ff3399"/>
                          </a:solidFill>
                          <a:latin typeface="楷体_GB2312"/>
                          <a:ea typeface="楷体_GB2312"/>
                        </a:rPr>
                        <a:t>无明显改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仅维持循环与呼吸 的最基本功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R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 规则，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可下降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大、小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失禁或潴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失禁或潴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</a:tbl>
          </a:graphicData>
        </a:graphic>
      </p:graphicFrame>
      <p:sp>
        <p:nvSpPr>
          <p:cNvPr id="623" name="">
            <a:hlinkClick r:id="rId1"/>
          </p:cNvPr>
          <p:cNvSpPr/>
          <p:nvPr/>
        </p:nvSpPr>
        <p:spPr>
          <a:xfrm>
            <a:off x="424080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楷体_GB2312"/>
              </a:rPr>
              <a:t>浅、深度昏迷的临床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隶书"/>
                <a:ea typeface="隶书"/>
              </a:rPr>
              <a:t>第一节 病情观察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病情观察的概念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病情观察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病情观察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特殊类型的意识障碍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皮质综合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动性缄默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（五）瞳孔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34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（五）瞳孔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2mm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瞳孔缩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1mm—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针尖样瞳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5mm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瞳孔散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状   圆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称性  对称居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缘    整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小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-5m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光反应   灵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3962520" y="2209680"/>
            <a:ext cx="5181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针尖样瞳孔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9532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40000"/>
                </a:solidFill>
                <a:latin typeface="隶书"/>
                <a:ea typeface="隶书"/>
              </a:rPr>
              <a:t>异 常 瞳 孔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瞳孔缩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侧瞳孔缩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见于有机磷农药、氯丙嗪、 吗啡等药物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侧瞳孔缩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示同侧小脑幕裂孔疝早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57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隶书"/>
                <a:ea typeface="隶书"/>
              </a:rPr>
              <a:t>异 常 瞳 孔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瞳孔散大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m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侧瞳孔扩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见于颅内压增高、颅脑损伤颠茄类药物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濒死状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侧瞳孔扩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示同侧硬脑膜下血肿或脑肿瘤 所致的小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幕裂孔疝的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5181480" y="762120"/>
            <a:ext cx="3333960" cy="1838160"/>
          </a:xfrm>
          <a:prstGeom prst="rect">
            <a:avLst/>
          </a:prstGeom>
          <a:ln w="0">
            <a:noFill/>
          </a:ln>
        </p:spPr>
      </p:pic>
      <p:pic>
        <p:nvPicPr>
          <p:cNvPr id="639" name="dckdtk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54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瞳孔对光反射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瞳孔大小不随光线刺激而变化，见于危重或深昏迷病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危重病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昏迷病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瞳孔的观察     颅脑病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列为重点     头部外伤病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药物中毒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895480" y="2895480"/>
            <a:ext cx="228600" cy="2210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240 h 2210040"/>
              <a:gd name="textAreaBottom" fmla="*/ 209880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39"/>
                  <a:pt x="10800" y="3477"/>
                </a:cubicBezTo>
                <a:lnTo>
                  <a:pt x="10800" y="7323"/>
                </a:lnTo>
                <a:cubicBezTo>
                  <a:pt x="10800" y="9062"/>
                  <a:pt x="5400" y="10800"/>
                  <a:pt x="0" y="10800"/>
                </a:cubicBezTo>
                <a:cubicBezTo>
                  <a:pt x="5400" y="10800"/>
                  <a:pt x="10800" y="12539"/>
                  <a:pt x="10800" y="14277"/>
                </a:cubicBezTo>
                <a:lnTo>
                  <a:pt x="10800" y="18123"/>
                </a:lnTo>
                <a:cubicBezTo>
                  <a:pt x="10800" y="19862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（六）自理能力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病人的活动能力及活动耐力，有无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疗、疾病的限制以及是否借助辅助器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理能力分为三个等级：完全依赖、协助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（七）心理状态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患者语言和非语言行为、思维能力、认知能力、情绪状态、感知情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异常行为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异常情绪反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962520" y="3529080"/>
            <a:ext cx="51814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（八）其他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常见症状的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特殊检查或药物治疗的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殊检查后的观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某些治疗方法时对患者的观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殊药物治疗患者的观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一、病情观察的概念及意义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概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病情观察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即护理人员在护理工作中运用视听、问、触、嗅等感觉器官及辅助工具来获得有关病人病情信息的动态过程，为病人的诊断、治疗、护理和并发症的预防提供依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危重病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指病情严重，随时可能发生生命危险的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一、病情观察的概念及意义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助于及时发现危重患者病情变化的征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诊断、治疗和护理提供科学依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助于判断疾病的发展和转归。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及时了解治疗效果和用药反应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护理人员应具备的条件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去伪存真、详加分析、反复印证的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广博的医学知识，严谨的工作作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丝不苟、高度的责任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训练有素的观察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做到“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隶书"/>
              </a:rPr>
              <a:t>五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，即勤巡视、勤观察、勤询问、勤思考、勤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二、病情观察的方法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视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接观察法    听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叩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                           嗅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接观察法    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仪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752480" y="3048120"/>
            <a:ext cx="304920" cy="2438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2760 h 2438280"/>
              <a:gd name="textAreaBottom" fmla="*/ 23155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39"/>
                  <a:pt x="10800" y="3477"/>
                </a:cubicBezTo>
                <a:lnTo>
                  <a:pt x="10800" y="7323"/>
                </a:lnTo>
                <a:cubicBezTo>
                  <a:pt x="10800" y="9062"/>
                  <a:pt x="5400" y="10800"/>
                  <a:pt x="0" y="10800"/>
                </a:cubicBezTo>
                <a:cubicBezTo>
                  <a:pt x="5400" y="10800"/>
                  <a:pt x="10800" y="12539"/>
                  <a:pt x="10800" y="14277"/>
                </a:cubicBezTo>
                <a:lnTo>
                  <a:pt x="10800" y="18123"/>
                </a:lnTo>
                <a:cubicBezTo>
                  <a:pt x="10800" y="19862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152388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37880 h 2743200"/>
              <a:gd name="textAreaBottom" fmla="*/ 26053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39"/>
                  <a:pt x="10800" y="3477"/>
                </a:cubicBezTo>
                <a:lnTo>
                  <a:pt x="10800" y="7323"/>
                </a:lnTo>
                <a:cubicBezTo>
                  <a:pt x="10800" y="9062"/>
                  <a:pt x="5400" y="10800"/>
                  <a:pt x="0" y="10800"/>
                </a:cubicBezTo>
                <a:cubicBezTo>
                  <a:pt x="5400" y="10800"/>
                  <a:pt x="10800" y="12539"/>
                  <a:pt x="10800" y="14277"/>
                </a:cubicBezTo>
                <a:lnTo>
                  <a:pt x="10800" y="18123"/>
                </a:lnTo>
                <a:cubicBezTo>
                  <a:pt x="10800" y="19862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44197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84240 h 1676160"/>
              <a:gd name="textAreaBottom" fmla="*/ 159192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39"/>
                  <a:pt x="10800" y="3477"/>
                </a:cubicBezTo>
                <a:lnTo>
                  <a:pt x="10800" y="7323"/>
                </a:lnTo>
                <a:cubicBezTo>
                  <a:pt x="10800" y="9062"/>
                  <a:pt x="5400" y="10800"/>
                  <a:pt x="0" y="10800"/>
                </a:cubicBezTo>
                <a:cubicBezTo>
                  <a:pt x="5400" y="10800"/>
                  <a:pt x="10800" y="12539"/>
                  <a:pt x="10800" y="14277"/>
                </a:cubicBezTo>
                <a:lnTo>
                  <a:pt x="10800" y="18123"/>
                </a:lnTo>
                <a:cubicBezTo>
                  <a:pt x="10800" y="19862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隶书"/>
              </a:rPr>
              <a:t>三、病情观察的内容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（一）一般情况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饮食与营养状态、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发育与体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容与表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姿势与步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睡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皮肤与黏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呕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排泄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07:12:47Z</dcterms:created>
  <dc:creator>lenovo</dc:creator>
  <dc:description/>
  <dc:language>en-US</dc:language>
  <cp:lastModifiedBy>雨林木风</cp:lastModifiedBy>
  <dcterms:modified xsi:type="dcterms:W3CDTF">2003-02-26T18:36:2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