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C19-1283-43CD-BA9F-FA9A42B7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097-A6BA-446C-B9FC-B8AE13B6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68D-2276-43A7-B858-924FD79E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4ED-7056-499D-8193-5484CBC2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948-63B0-415B-AABA-27407343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DBF-650E-437B-ADBA-A0FE3D4C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5CDC-AEB1-40A2-B543-2E9DBBFE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F0D-D6A2-4D5C-B9C1-4CCC4F1B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7C7-6985-4D2B-8E63-B38A7305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0C8-5C38-449E-94D0-53302CEC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B07-97C3-4153-B5F3-D381C8D0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688-E162-4102-9B62-E12960B7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1B84-076C-4B49-B985-FE4B1B0ED0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11.ppt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00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第三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入院与出院病人的护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节  出院病人的护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定义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出院护理是指病人出院时，护理人员对病人所进行的一系列护理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目的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患者进行出院指导，协助其重返社会，并能遵照医嘱按时接受治疗或定期复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导病人办理出院手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清洁、消毒和整理床单位，准备迎接新病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  出院方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医生同意出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病人自动出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转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  出院护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一）出院前的护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通知病人及家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评估病人身心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征求意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二）出院当日护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执行出院医嘱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1.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协助病人整理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护送病人出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一切医嘱，用红笔在各种执行卡片（服药卡、治疗卡、饮食卡、护理卡等）或有关表格单上填写“出院”字样，注明日期并签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撤去“患者一览表”上诊断卡及床头（尾）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写出院患者登记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出院后续继续服药时，按医嘱处方到药房领服药物，交换者或家属带回，并给予用药知识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体温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~42℃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横线之间，相应出院日期和时间栏内，用红钢笔纵行填写出院时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三）出院后护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床单位的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撤去病床上污被服，放入污衣袋，送洗衣房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消毒液擦拭床旁桌、床旁椅及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非一次性使用的痰杯、脸盆，须用消毒液浸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床垫、床褥、棉胎、枕芯等放在日光下曝晒、紫外线灯照射消毒或使用臭氧机消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病室开窗通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患传染性疾病患者离院后，需按传染病终末消毒法进行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出院病历的整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铺备用床，准备迎接新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一节  入院病人护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定义】入院病人护理是指病人入院后，护理人员对病人所进行的一系列护理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内容】入院的程序及病人入病区后的初步护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目的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43828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协助患者了解和熟悉环境，使患者尽快熟悉和适应医院生活，消除紧张、焦虑等不良心理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满足患者的各种合理需求，以调动患者配合治疗护理的积极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做好健康教育，满足患者对疾病知识的需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入院的程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病人经门诊或急诊医生检查诊断后因病情需要确定住院治疗时，医生签发住院证，护理人员根据病人情况提供相关的护理措施，协助病人入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办理入院手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施卫生处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护送病人入病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病人入病区后的初步护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一）一般病人入病区后的护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准备床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迎接新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测量体温、脉搏、呼吸、血压及体重，需要时测量身高并记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知医生诊室病人，必要时协助体检或治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填写住院病历和有关护理表格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蓝水钢笔逐项填写住院病历眉栏项目及各种表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红水钢笔将患者入院时间纵行填写在当日体温单相应时间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0~42℃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横线之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录首次体温、脉搏、呼吸、血压、体重和身高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写患者入院登记本、诊断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览表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床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尾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做好介绍与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按医嘱执行各项治疗和护理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入院护理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二）急诊病人入病区后的护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准备床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备好急救物品及药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配合抢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暂留陪送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分级护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级护理就是根据对患者病情的轻、重、缓、急及患者自理能力的评估，给予不同级别的护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级护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级护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级护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级护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识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级及以上护理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红色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二级护理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黄色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三级护理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zy</cp:lastModifiedBy>
  <dcterms:modified xsi:type="dcterms:W3CDTF">2013-04-08T01:59:3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