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4.jpeg" ContentType="image/jpeg"/>
  <Override PartName="/ppt/media/image22.png" ContentType="image/png"/>
  <Override PartName="/ppt/media/image18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23.png" ContentType="image/png"/>
  <Override PartName="/ppt/media/image8.jpeg" ContentType="image/jpeg"/>
  <Override PartName="/ppt/media/image30.png" ContentType="image/png"/>
  <Override PartName="/ppt/media/image19.jpeg" ContentType="image/jpeg"/>
  <Override PartName="/ppt/media/image1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2.jpeg" ContentType="image/jpeg"/>
  <Override PartName="/ppt/media/image35.png" ContentType="image/png"/>
  <Override PartName="/ppt/media/image36.wmf" ContentType="image/x-wmf"/>
  <Override PartName="/ppt/media/image6.png" ContentType="image/png"/>
  <Override PartName="/ppt/media/image29.png" ContentType="image/png"/>
  <Override PartName="/ppt/media/image28.png" ContentType="image/png"/>
  <Override PartName="/ppt/media/image5.gif" ContentType="image/gif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21.gif" ContentType="image/gi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2D2-B03A-4AE1-BBEC-C6AD46D1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839-50AB-4519-9511-9E68DD1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CC1-0CD4-4FA7-8A31-6186331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4E3-492B-4F5F-B881-8520D750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0B6-09F1-440A-B4DC-A5BF4A8E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EB8-B33C-47AC-9895-54471B30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68C-3909-418C-BE70-8DB66D47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B00-973F-438F-925A-087F030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894-B6B4-48DF-9DD1-57467366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202-4D3A-4DD0-ABB8-2F22ED8F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624-0BAB-4B88-817C-F76D7BAE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9C0-21A0-4EBC-9488-B89232BD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214-2797-4165-ACAB-7B137DB18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.chinaz.com/Files/pic/webPic/jierizj/gq2/&#22269;&#24198;GIF&#21160;&#30011;26.gif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image" Target="../media/image36.wmf"/><Relationship Id="rId4" Type="http://schemas.openxmlformats.org/officeDocument/2006/relationships/image" Target="../media/image36.wmf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G:\&#26631;&#26412;&#37319;&#38598;\2009221177141.jpg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标 本 采 集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1874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（一）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血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液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标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本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采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集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84360" y="189000"/>
            <a:ext cx="6408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１、意义：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２、种类：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全血标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血沉、血常规、测定血液中物质的含量（血糖、尿素氮、肌酐等）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血清标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血清酶、脂类、电解质、肝功能等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血培养标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病原菌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３、方法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毛细血管采血法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静脉采血法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脉采血法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毛细血管采血方法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39960" y="954000"/>
            <a:ext cx="2438640" cy="5241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330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410440" cy="451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162920" y="304920"/>
            <a:ext cx="1295280" cy="457200"/>
          </a:xfrm>
          <a:custGeom>
            <a:avLst/>
            <a:gdLst>
              <a:gd name="textAreaLeft" fmla="*/ 28440 w 1295280"/>
              <a:gd name="textAreaRight" fmla="*/ 1266840 w 12952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813" y="1350"/>
                </a:lnTo>
                <a:lnTo>
                  <a:pt x="1350" y="135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813" y="20250"/>
                </a:lnTo>
                <a:lnTo>
                  <a:pt x="59813" y="135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9813" y="2025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1163" h="21600">
                <a:moveTo>
                  <a:pt x="23538" y="10800"/>
                </a:moveTo>
                <a:lnTo>
                  <a:pt x="37625" y="3756"/>
                </a:lnTo>
                <a:lnTo>
                  <a:pt x="37625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静脉采血法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静脉采血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4440" y="380880"/>
            <a:ext cx="5473440" cy="60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静脉采血法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目的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：协助临床诊断疾病，为临床治疗提供依据。</a:t>
            </a:r>
            <a:endParaRPr b="1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评估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病人的一般情况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病人所需检查项目，采血量及是否需要特殊准备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病人是否了解目的和注意事项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穿刺部位皮肤及血管情况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静脉采血法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00000" y="47592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方正姚体"/>
                <a:ea typeface="方正姚体"/>
              </a:rPr>
              <a:t>计划</a:t>
            </a:r>
            <a:endParaRPr b="1" lang="en-US" sz="6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操作者准备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用物准备：注射盘加止血带、一次性注射器、标本容器（抗凝管、干燥管、血培养瓶）、检验单、酒精灯和火柴（采集血培养标本时用）等。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病人准备：局部皮肤清洁，明确目的及注意事项。采集生化检验的血标本，须在早晨空腹时。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环境准备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350040" cy="507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562720" cy="556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12001" r="0" b="5000"/>
          <a:stretch/>
        </p:blipFill>
        <p:spPr>
          <a:xfrm>
            <a:off x="3657600" y="152280"/>
            <a:ext cx="510552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1371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４、血液标本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采集的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操作方法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80880"/>
            <a:ext cx="6985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实施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查对医嘱，贴化验单的附联于标本容器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洗手、携用物至床旁、核对、解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静脉、系止血带、消毒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刺、抽取所需血量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松止血带、松拳、拔针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下针头、将血液沿管壁注入容器（血清标本、全血标本、血培养标本）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理用物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84000" y="549000"/>
            <a:ext cx="645012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全血标本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取下针头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选择抗凝剂的试管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轻轻旋转摇动试管—使血液和抗凝剂混匀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血培养标本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6902" t="8562" r="13001" b="12061"/>
          <a:stretch/>
        </p:blipFill>
        <p:spPr>
          <a:xfrm>
            <a:off x="0" y="191628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11280" y="3213000"/>
            <a:ext cx="6553440" cy="266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黑体"/>
              </a:rPr>
              <a:t>密封培养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消毒瓶盖 ——更换针头——注入瓶内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摇匀——及时送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014640" y="251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014640" y="342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14640" y="423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19520" y="12682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幼圆"/>
              </a:rPr>
              <a:t>学 习 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158000" y="2286000"/>
            <a:ext cx="109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掌握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新魏"/>
              </a:rPr>
              <a:t>标本采集原则、各种标本的采集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14640" y="5059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281320" y="565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914400" y="2895480"/>
            <a:ext cx="762012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720080" y="3048120"/>
            <a:ext cx="31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熟悉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新魏"/>
              </a:rPr>
              <a:t>标本采集的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914400" y="3657600"/>
            <a:ext cx="769608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557360" y="3840120"/>
            <a:ext cx="261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了解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新魏"/>
              </a:rPr>
              <a:t>标本采集的意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7"/>
          <p:cNvSpPr/>
          <p:nvPr/>
        </p:nvSpPr>
        <p:spPr>
          <a:xfrm>
            <a:off x="914400" y="4419720"/>
            <a:ext cx="769608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7238880" y="6477120"/>
            <a:ext cx="16002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36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血清标本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干燥试管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取下针头、沿管壁注入容器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勿将泡沫注入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避免震荡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及时送检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84360" y="4005360"/>
            <a:ext cx="3225960" cy="285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4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042920" y="765000"/>
            <a:ext cx="773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静脉采血法与静脉注射法的区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219320" y="1905120"/>
            <a:ext cx="6781680" cy="13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是抽一个是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先抽出所需血量后，再两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47920" y="579132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幼圆"/>
              </a:rPr>
              <a:t>静脉采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638680" y="579132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幼圆"/>
              </a:rPr>
              <a:t>静脉注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693720" y="3152880"/>
            <a:ext cx="3649680" cy="27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724280" y="3152880"/>
            <a:ext cx="3649680" cy="27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238880" y="6477120"/>
            <a:ext cx="16002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1" descr="fh-04"/>
          <p:cNvPicPr/>
          <p:nvPr/>
        </p:nvPicPr>
        <p:blipFill>
          <a:blip r:embed="rId3"/>
          <a:stretch/>
        </p:blipFill>
        <p:spPr>
          <a:xfrm>
            <a:off x="533520" y="13716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...转箭头按钮-网页设计素材图..."/>
          <p:cNvPicPr/>
          <p:nvPr/>
        </p:nvPicPr>
        <p:blipFill>
          <a:blip r:embed="rId4"/>
          <a:stretch/>
        </p:blipFill>
        <p:spPr>
          <a:xfrm>
            <a:off x="8229600" y="5943600"/>
            <a:ext cx="533520" cy="390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340000" y="766800"/>
            <a:ext cx="2963880" cy="4680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221440" y="836640"/>
            <a:ext cx="374472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13716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注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意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事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项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340000" y="260280"/>
            <a:ext cx="680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若需要空腹血，应提前告知患者禁食。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抽取血标本需用干燥注射器、针头和干燥试管。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采集全血标本时需要加入抗凝剂，注入血液后轻轻旋转摇动。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采集血培养标本时应防止污染。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若同时抽取不同种类的血标本，应先注入血培养瓶， 再注入抗凝管，最后注入干燥试管。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严禁在输液、输血的针头处取血标本，最好在对侧肢体采集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2487240"/>
            <a:ext cx="6553080" cy="1373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张某，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0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岁，持续高热不退，为协助诊断，医嘱查血常规、血沉、血培养，护士应如何正确留取标本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194472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（二）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痰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标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本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采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集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629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１、目的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检查痰液内细胞、细菌、寄生虫等—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协助诊断呼吸系统疾病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２、种类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常规痰标本—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细菌、虫卵、癌细胞等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痰培养标本—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致病菌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２４小时痰标本—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量、性状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静脉采血法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评估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病人的一般情况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病人所需检查目的，采集标本的种类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病人的神智状况，理解和接受能力，合作程度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静脉采血法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00000" y="47592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方正姚体"/>
                <a:ea typeface="方正姚体"/>
              </a:rPr>
              <a:t>计划</a:t>
            </a:r>
            <a:endParaRPr b="1" lang="en-US" sz="6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操作者准备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用物准备：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病人准备：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环境准备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7238880" y="6477120"/>
            <a:ext cx="16002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00360" y="620280"/>
            <a:ext cx="575784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幼圆"/>
                <a:ea typeface="幼圆"/>
              </a:rPr>
              <a:t>三种痰标本的区别：</a:t>
            </a:r>
            <a:endParaRPr b="1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1628640"/>
          <a:ext cx="8317080" cy="5229360"/>
        </p:xfrm>
        <a:graphic>
          <a:graphicData uri="http://schemas.openxmlformats.org/drawingml/2006/table">
            <a:tbl>
              <a:tblPr/>
              <a:tblGrid>
                <a:gridCol w="2314440"/>
                <a:gridCol w="6002640"/>
              </a:tblGrid>
              <a:tr h="116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分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　　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19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幼圆"/>
                          <a:ea typeface="幼圆"/>
                        </a:rPr>
                        <a:t>痰常规标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9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66"/>
                          </a:solidFill>
                          <a:latin typeface="幼圆"/>
                          <a:ea typeface="幼圆"/>
                        </a:rPr>
                        <a:t>痰培养标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67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幼圆"/>
                          <a:ea typeface="幼圆"/>
                        </a:rPr>
                        <a:t>24h</a:t>
                      </a:r>
                      <a:r>
                        <a:rPr b="1" lang="zh-CN" sz="3200" spc="-1" strike="noStrike">
                          <a:solidFill>
                            <a:srgbClr val="660066"/>
                          </a:solidFill>
                          <a:latin typeface="幼圆"/>
                          <a:ea typeface="幼圆"/>
                        </a:rPr>
                        <a:t>痰标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71" name="Picture 60" descr="痰盒1"/>
          <p:cNvPicPr/>
          <p:nvPr/>
        </p:nvPicPr>
        <p:blipFill>
          <a:blip r:embed="rId9"/>
          <a:srcRect l="36681" t="40010" r="40003" b="33332"/>
          <a:stretch/>
        </p:blipFill>
        <p:spPr>
          <a:xfrm>
            <a:off x="5715000" y="3048120"/>
            <a:ext cx="1293840" cy="990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2"/>
          <p:cNvSpPr/>
          <p:nvPr/>
        </p:nvSpPr>
        <p:spPr>
          <a:xfrm>
            <a:off x="3429000" y="3179880"/>
            <a:ext cx="21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普通容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4"/>
          <p:cNvSpPr/>
          <p:nvPr/>
        </p:nvSpPr>
        <p:spPr>
          <a:xfrm>
            <a:off x="3581280" y="3962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无菌容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漱口溶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66" descr="62751440-1"/>
          <p:cNvPicPr/>
          <p:nvPr/>
        </p:nvPicPr>
        <p:blipFill>
          <a:blip r:embed="rId10">
            <a:lum bright="-6000"/>
          </a:blip>
          <a:srcRect l="75981" t="0" r="0" b="11290"/>
          <a:stretch/>
        </p:blipFill>
        <p:spPr>
          <a:xfrm>
            <a:off x="7086600" y="495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痰盒1"/>
          <p:cNvPicPr/>
          <p:nvPr/>
        </p:nvPicPr>
        <p:blipFill>
          <a:blip r:embed="rId11"/>
          <a:srcRect l="36681" t="40010" r="40003" b="33332"/>
          <a:stretch/>
        </p:blipFill>
        <p:spPr>
          <a:xfrm>
            <a:off x="6324480" y="4038480"/>
            <a:ext cx="1293840" cy="949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9"/>
          <p:cNvSpPr/>
          <p:nvPr/>
        </p:nvSpPr>
        <p:spPr>
          <a:xfrm>
            <a:off x="3886200" y="522612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500ml</a:t>
            </a: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广口玻璃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内盛少量清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1371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３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痰标本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采集方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40000" y="380520"/>
            <a:ext cx="662472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常规痰标本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间：清晨醒来未进食前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方法：先漱口——数次深呼吸——用力咳、盛于痰盒内——送检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2637000"/>
            <a:ext cx="5903640" cy="345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、采样时：讲——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无法咳痰或不合作的病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叩击背部、使用集痰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13716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主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要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内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容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55640" y="18864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标本采集的意义、原则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一、血液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二、痰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三、咽试子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四、尿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五、粪便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吸痰管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62120" y="1905120"/>
            <a:ext cx="7696080" cy="1423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吸痰管头"/>
          <p:cNvPicPr/>
          <p:nvPr/>
        </p:nvPicPr>
        <p:blipFill>
          <a:blip r:embed="rId2"/>
          <a:stretch/>
        </p:blipFill>
        <p:spPr>
          <a:xfrm>
            <a:off x="1066680" y="3124080"/>
            <a:ext cx="3048120" cy="294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吸痰管头2"/>
          <p:cNvPicPr/>
          <p:nvPr/>
        </p:nvPicPr>
        <p:blipFill>
          <a:blip r:embed="rId3"/>
          <a:stretch/>
        </p:blipFill>
        <p:spPr>
          <a:xfrm>
            <a:off x="5638680" y="3124080"/>
            <a:ext cx="2746440" cy="28609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286000" y="121932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隶书"/>
              </a:rPr>
              <a:t>一  次 性 吸 痰 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238880" y="6477120"/>
            <a:ext cx="16002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" descr="集痰器"/>
          <p:cNvPicPr/>
          <p:nvPr/>
        </p:nvPicPr>
        <p:blipFill>
          <a:blip r:embed="rId1"/>
          <a:srcRect l="9865" t="12160" r="23941" b="18578"/>
          <a:stretch/>
        </p:blipFill>
        <p:spPr>
          <a:xfrm>
            <a:off x="3581280" y="1371600"/>
            <a:ext cx="3624480" cy="4952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1263960" y="2057400"/>
            <a:ext cx="1642680" cy="3319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集  痰  器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7238880" y="6477120"/>
            <a:ext cx="16002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84000" y="380520"/>
            <a:ext cx="6126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痰培养标本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间：清晨醒来未进食前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方法：先漱口（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漱口先用漱口溶液、再用清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——数次深呼吸——用力咳、盛于痰盒内——送检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4076640"/>
            <a:ext cx="5904000" cy="187164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※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　严格无菌操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68000" y="380880"/>
            <a:ext cx="68756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２４小时痰标本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集痰器里加少量清水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从清晨醒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am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未进食前漱口后第一口痰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日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am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未进食前漱口后第一口痰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小时）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71640" y="4076640"/>
            <a:ext cx="5904000" cy="223200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※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不可将唾液、漱口水、鼻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混入痰标本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771640" y="189000"/>
            <a:ext cx="609624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痰标本采集注意事项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、采集前了解目的、患者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、容器应符合要求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、操作规范，手法、量、时间都要准确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、勿混入唾液、鼻涕、漱口水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、如有伤口可轻轻压迫伤口，减轻疼痛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、采集后及时送检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14600" y="571680"/>
            <a:ext cx="3098880" cy="571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2971800" y="380880"/>
            <a:ext cx="441972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咽拭子标本采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18003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咽拭子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标本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采集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55640" y="188640"/>
            <a:ext cx="6337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目的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从咽部、扁桃体取分泌物作细菌培养或病毒分离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方法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查对医嘱，贴化验单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洗手、携用物至床旁、核对、解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点燃酒精灯，嘱病人张口发“啊”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培养管里无菌长棉签擦拭腭弓、咽、扁桃体的分泌物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消毒试管口，棉签插入试管，塞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洗手、记录、送检（图片）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38896" t="13030" r="15460" b="4510"/>
          <a:stretch/>
        </p:blipFill>
        <p:spPr>
          <a:xfrm>
            <a:off x="179280" y="3429000"/>
            <a:ext cx="2160720" cy="3068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56000" y="5084640"/>
            <a:ext cx="6264000" cy="14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、棉签不要触及其他部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、避免在进食之后取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咽拭子标本采集注意事项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避免交叉感染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注意棉签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不要触及其它部位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，防止污染标本，影响其他结果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避免在进食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小时内采集标本，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防呕吐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尿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标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本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采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集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14600" y="380880"/>
            <a:ext cx="2990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常规标本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培养标本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12h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24h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标本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213080" y="2852640"/>
            <a:ext cx="41878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1371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１、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常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规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标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本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10920" y="380880"/>
            <a:ext cx="6481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目的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检查尿液的色泽、透明度、比重、蛋白、糖、细胞、管型等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方法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查对医嘱、贴检验单附联于标本容器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携用物至床旁、核对、解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收集尿液标本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0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可下床活动的病人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行动不便的病人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留置导尿的病人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送检、记录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1371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标本采集的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意义和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原则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40000" y="380880"/>
            <a:ext cx="66247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概念（标本）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　　是指采取病人少许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血液、排泄物、分泌物、呕吐物、体液、脱落细胞等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样品，经物理、化学和生物学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试验室技术和方法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对其进行检验，作为判断病人有无异常存在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依据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，从而获得发映出机体正常的生理现象和病理改变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资料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4" name="Picture 36" descr="8r6AtbFV"/>
          <p:cNvPicPr/>
          <p:nvPr/>
        </p:nvPicPr>
        <p:blipFill>
          <a:blip r:embed="rId1"/>
          <a:stretch/>
        </p:blipFill>
        <p:spPr>
          <a:xfrm>
            <a:off x="7332840" y="5181480"/>
            <a:ext cx="16128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注意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月经期不宜留取尿标本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做早孕诊断试验应留晨尿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会阴部分泌物过多时，应先清洁或冲洗，再收集尿液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1371600" cy="39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２、尿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培养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标本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采集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84360" y="188640"/>
            <a:ext cx="60962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目的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细菌培养、细菌培养试验，以协助诊断和治疗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方法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查对医嘱、贴检验单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携用物至床旁、核对、解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屏风遮挡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打开导尿包、戴手套、按导尿术清洁、消毒外阴和尿道口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前段尿液排在便盆里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留取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0ml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段尿液在无菌标本容器内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余尿排在便盆内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整理用物、标本送检、记录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注意事项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无菌操作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排尿困难者行导尿术留取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３、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ｈ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尿标本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68000" y="260280"/>
            <a:ext cx="6875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目的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于化学物质的定量检测与尿量的检测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方法：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am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am     7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注意：</a:t>
            </a: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间：从排空膀胱后开始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小时排尽膀胱止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集尿瓶放在阴凉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加入适当防腐剂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容器外贴标签、注明留尿起止时间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14240" y="333360"/>
            <a:ext cx="66294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尿标本采集注意事项</a:t>
            </a:r>
            <a:endParaRPr b="1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—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女患者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月经期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不宜留取尿标本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—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会阴部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分泌物过多时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，应先清洁再冲洗，再收集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—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早孕检查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试验应留晨尿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—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留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取尿培养标本时，无菌操作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—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留取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12h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或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24h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尿标本，集尿瓶应放在阴凉处，根据检验要求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加防腐剂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。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  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55640" y="259920"/>
            <a:ext cx="29718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常用防腐剂用法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907920"/>
          <a:ext cx="8785080" cy="5950080"/>
        </p:xfrm>
        <a:graphic>
          <a:graphicData uri="http://schemas.openxmlformats.org/drawingml/2006/table">
            <a:tbl>
              <a:tblPr/>
              <a:tblGrid>
                <a:gridCol w="1271520"/>
                <a:gridCol w="2541600"/>
                <a:gridCol w="2670120"/>
                <a:gridCol w="230184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检查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甲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爱迪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固定尿中有机成分、防止细菌生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中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甲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浓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素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类固醇、儿茶酚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防止尿中激素被氧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中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甲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-10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甲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化项目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蛋白、尿糖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持尿中化学成分不变、防止细菌污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m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-1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甲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1801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（五）粪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便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标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本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采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集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55640" y="18864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种类及目的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常规标本——检查粪便性状、颜色、细胞等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细菌培养标本——致病菌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隐血标本——微量血液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寄生虫或虫卵标本——寄生虫等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68360" y="0"/>
          <a:ext cx="6875640" cy="6858000"/>
        </p:xfrm>
        <a:graphic>
          <a:graphicData uri="http://schemas.openxmlformats.org/drawingml/2006/table">
            <a:tbl>
              <a:tblPr/>
              <a:tblGrid>
                <a:gridCol w="2951280"/>
                <a:gridCol w="2627280"/>
                <a:gridCol w="1297080"/>
              </a:tblGrid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种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目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容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常规标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查一般形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便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细菌培养标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查致病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培养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隐血标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查肉眼不能察见的微量血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便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寄生虫或虫卵标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查寄生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便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68000" y="-360"/>
            <a:ext cx="6629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方法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查对医嘱、贴检验单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对、解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屏风遮挡、排空膀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收集粪便标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常规标本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——用便匙取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中央部分或粘液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脓血部分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5g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培养标本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——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无菌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棉签取粪便中央或脓血部分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-5g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置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培养瓶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内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隐血标本——按常规标本留取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5157720"/>
            <a:ext cx="6337440" cy="151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※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病人检查前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天禁食肉类、肝、血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含大量绿叶素的食物、铁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19280" y="333000"/>
            <a:ext cx="7200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寄生虫标本—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检查寄生虫——在粪便不同部位取带血或粘液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检查蛲虫——睡觉前或清晨为起床前，将透明胶带贴在肛门周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检查阿米巴原虫——将便盆加温至接近人的体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意义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协助明确疾病诊断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推测病程进展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制定治疗措施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观察病情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7" name="" descr="国庆GIF动画2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371628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Times New Roman"/>
              </a:rPr>
              <a:t>谢</a:t>
            </a:r>
            <a:br>
              <a:rPr sz="8000"/>
            </a:br>
            <a:r>
              <a:rPr b="1" i="1" lang="zh-CN" sz="8000" spc="-1" strike="noStrike">
                <a:solidFill>
                  <a:srgbClr val="ffffff"/>
                </a:solidFill>
                <a:latin typeface="Times New Roman"/>
              </a:rPr>
              <a:t>谢</a:t>
            </a:r>
            <a:br>
              <a:rPr sz="8000"/>
            </a:br>
            <a:r>
              <a:rPr b="1" i="1" lang="zh-CN" sz="8000" spc="-1" strike="noStrike">
                <a:solidFill>
                  <a:srgbClr val="ffffff"/>
                </a:solidFill>
                <a:latin typeface="Times New Roman"/>
              </a:rPr>
              <a:t>！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2346480" cy="2475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797520" y="0"/>
            <a:ext cx="2346480" cy="2475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556000" y="0"/>
            <a:ext cx="2346120" cy="2475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97520" y="1700280"/>
            <a:ext cx="2346480" cy="2475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859280" y="1484280"/>
            <a:ext cx="2346480" cy="2475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2916360" y="1341360"/>
            <a:ext cx="2346120" cy="2475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514240" y="4365360"/>
            <a:ext cx="6096240" cy="2111760"/>
          </a:xfrm>
          <a:prstGeom prst="rect">
            <a:avLst/>
          </a:prstGeom>
          <a:gradFill rotWithShape="0">
            <a:gsLst>
              <a:gs pos="0">
                <a:srgbClr val="520402"/>
              </a:gs>
              <a:gs pos="100000">
                <a:srgbClr val="ffcc00"/>
              </a:gs>
            </a:gsLst>
            <a:lin ang="5400000"/>
          </a:gradFill>
          <a:ln cap="sq"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40000" y="188640"/>
            <a:ext cx="680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原则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遵照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医嘱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充分准备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明确检验项目、目的、采集标本量、采集方法及注意事项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病人准备：向病人解释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物品准备：容器、标签等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护士准备：洗手、戴口罩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严格查对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正确采集：时间、量、方法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及时送检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明确检验项目、检验目的及注意事项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每次采集血标本时应做到“三个一”：一患者、一化验单、一容器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一般培养标本的采集应在使用抗生素之前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    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0" name="Picture 36" descr="8r6AtbFV"/>
          <p:cNvPicPr/>
          <p:nvPr/>
        </p:nvPicPr>
        <p:blipFill>
          <a:blip r:embed="rId1"/>
          <a:stretch/>
        </p:blipFill>
        <p:spPr>
          <a:xfrm>
            <a:off x="7332840" y="5181480"/>
            <a:ext cx="16128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各种标本的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采集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一、血液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二、痰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三、咽试子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四、尿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五、粪便标本采集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2990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一、血液标本的采集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70160" y="1774800"/>
            <a:ext cx="64785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2:10:09Z</dcterms:created>
  <dc:creator>ljs</dc:creator>
  <dc:description/>
  <dc:language>en-US</dc:language>
  <cp:lastModifiedBy>微软用户</cp:lastModifiedBy>
  <dcterms:modified xsi:type="dcterms:W3CDTF">2012-12-02T11:44:13Z</dcterms:modified>
  <cp:revision>57</cp:revision>
  <dc:subject/>
  <dc:title>标 本 采 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2</vt:r8>
  </property>
</Properties>
</file>