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7D84-1E71-4452-9978-FDFC987656B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口腔护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DA80-4AD9-4DBB-8101-CEBCB26D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CB39-20B3-410F-8F24-590D09B8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B0D3-5359-46B9-ABF8-2F31DA69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B328-D48D-4052-A588-D6E04778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F2AC-EFC3-4454-955C-84F330DA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F37C-3D35-4329-BB2E-973F3E90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0E24-787C-4A3B-82B3-2A043BB3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29BB-4417-4BC6-B76C-4D77E16E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F49E-7BE4-482C-B06D-C2606F14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DA7A-D7AB-4FA4-B505-4DED5B46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95E0-F9CF-4EA4-B80E-3D1E55B2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AC0-1E6D-41B7-BA96-99AA9505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3DE6-21DF-4B38-8A00-1F50BC4C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8F61-5CCF-4840-9C67-08AAC8B2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A1FB-75FC-4DC7-8FBF-8F9E05D4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1CAD-D35B-4744-A595-2A1C0133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2B72-C60C-48BE-A6B3-8222496C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708-8740-435C-AB90-FD87DD7E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025-CF13-4877-9943-5D471BFF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DED9-2C46-481A-BD45-83F2FC29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784F-CD33-4CCC-881B-B8A8FCAE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493-8970-4970-96C2-61DD6C1A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7960-D952-4390-84D1-12A1F6DB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BA48-0DE1-48DA-B5F3-F2435520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CCD2-E7C4-4AEA-902B-F82791A74635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D788-30C1-48A9-AE5D-2C6C2051A29D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2270;-5-2&#29273;&#32447;&#21076;&#29273;&#27861;.jpg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2836;&#21457;&#25252;&#29702;-&#24202;&#19978;&#26803;&#21457;.wmv" TargetMode="Externa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2270;-5-4&#39532;&#36420;&#24418;&#21367;.jpg" TargetMode="External"/><Relationship Id="rId3" Type="http://schemas.openxmlformats.org/officeDocument/2006/relationships/hyperlink" Target="file:///&#22270;-5-5&#39532;&#36420;&#24418;&#21367;&#24202;&#19978;&#27927;&#22836;&#27861;.jpg" TargetMode="External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2836;&#21457;&#25252;&#29702;-&#24202;&#19978;&#27927;&#21457;.wmv" TargetMode="Externa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4920;5-1&#21475;&#33108;&#25252;&#29702;&#35780;&#20272;&#34920;.doc" TargetMode="Externa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2270;-5-10&#21098;&#20999;&#21147;&#24418;&#25104;&#22270;.jpg" TargetMode="External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2270;-5-11&#21387;&#30126;&#22909;&#21457;&#37096;&#20301;.jpg" TargetMode="External"/><Relationship Id="rId3" Type="http://schemas.openxmlformats.org/officeDocument/2006/relationships/hyperlink" Target="file:///&#22270;-5-11&#21387;&#30126;&#22909;&#21457;&#37096;&#20301;.jpg" TargetMode="External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9.xml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2270;-5-1&#21047;&#29273;&#26041;&#27861;.jpg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黑体"/>
              </a:rPr>
              <a:t> </a:t>
            </a: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黑体"/>
              </a:rPr>
              <a:t>第六章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  <a:ea typeface="黑体"/>
              </a:rPr>
              <a:t>病人的清洁和卫生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1054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609120"/>
            <a:ext cx="854064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⑥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握紧牙刷并与舌面成直角，轻轻涮洗舌面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⑦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漱口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⑧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移开弯盘，擦干病人口唇和面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⑨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整理用物和床单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▲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牙线剔牙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将牙线缠绕在两手中指第一关节处，食指和拇指置牙线以拉锯式将牙线嵌入两齿间，然后用力弹出，每个牙缝反复几次，直至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清洁为止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1429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609120"/>
            <a:ext cx="854064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注意事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根据病人的需要选择适宜的牙刷、牙膏和漱口液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舌面清洁力量应小、勿过深，以免引起病人不适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1054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609120"/>
            <a:ext cx="854064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健康教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指导病人正确选择口腔清洁用具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指导病人正确的刷牙方法和牙线的使用，避免牙齿受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指导病人进食后、睡觉前养成刷牙习惯，定期检查牙齿，预防龋齿发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睡前不应食入对牙齿有刺激性和腐蚀性的食物，减少食物中精制糖类及糖水化合物的含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每天多饮水，达到冲洗口腔的目的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【评价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自理病人能熟练进行正确口腔卫生清洁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病人了解口腔卫生保健知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病人口腔清洁无异味，无感染发生，口唇湿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病人精神状态有所好转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口腔卫生指导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637320" y="2819520"/>
            <a:ext cx="219240" cy="19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637320" y="4987800"/>
            <a:ext cx="219240" cy="19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义齿的清洁与护理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、白天佩戴义齿以增进咀嚼功能、说话和保持良好的面部外观；晚上取下义齿使牙床得到保养和休息。不能自理者，有护士协助进行义齿护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、义齿容易积有食物残渣和碎屑，故餐后应取下义齿进行清洗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、义齿是病人的贵重物品，应妥善保管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、鼓励病人使用义齿维持正常功能，防止牙龈萎缩变形，佩戴义齿前保持义齿湿润，以减少摩擦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三、特殊口腔护理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对于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高热、昏迷、危重、禁食、鼻饲、口腔疾患、术后、生活不能自理的患者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护士应给予特殊口腔护理，一般每日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～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次。如病情需要，应酌情增加次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【目的】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保持口腔清洁、湿润，预防口腔感染等并发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去除口臭、牙垢，增进食欲，保持口腔正常功能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观察口腔粘膜、舌苔及口腔特殊气味的改变，提供病情观察的动态信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【评估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的身心状态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的口腔情况（口唇、口腔黏膜、牙、牙龈、舌、扁桃体等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自理能力、心理接受程度和配合程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【计划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操作者准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用物准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）无菌治疗盘   盘内（治疗碗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个，弯止血钳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把，平镊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把，棉签，压舌板，吸水管）；盘外（润滑油或唇膏，手电筒，弯盘，毛巾），根据需要被外用药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）漱口溶液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病人准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环境准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口腔护理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口腔的功能：咀嚼、消化、味觉、语言、辅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助呼吸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良好的口腔卫生对个体的作用：维护自尊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保证正常沟通、预防疾病、促进病人康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-23796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380880"/>
            <a:ext cx="8540640" cy="57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【实施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操作步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核对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洗手、戴口罩，备齐用物到床旁，核对解释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体位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协助病人侧卧或仰卧，同偏向一侧，面向护士，治疗巾放于颌下，弯盘放口角旁，湿润口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漱口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协助患者用吸水管漱口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口腔评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按顺序擦拭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用弯止血钳夹取含有无菌溶液的棉球，拧干棉球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--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嘱患者咬合上、下齿，用压舌板轻轻撑开左侧颊部，擦洗左侧牙齿的外面。沿纵向擦洗牙齿，按顺序由臼齿洗向门齿。同法擦洗右侧牙齿的外面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--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嘱患者张开上、下齿，擦洗牙齿左上面内侧、坐上咬合面、左下内侧面、左下咬合面，以弧形擦洗左侧颊部。同法擦洗右侧牙齿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--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擦洗舌面及硬腭部、舌下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⑥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再次漱口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⑦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再次观察口腔情况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⑧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润唇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涂液体石蜡油或润唇膏，有口腔溃疡者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可局部涂口腔溃疡膏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⑨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操作后处理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--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撤去弯盘及治疗巾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--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协助患者取舒适卧位，整理床单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--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清洁、整理用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--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洗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--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记录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1924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0"/>
            <a:ext cx="854064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注意事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擦洗时动作要轻，特别是对凝血功能差的病人，要防止碰伤粘膜及牙龈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昏迷患者禁止漱口，需用开口器时，应从臼齿放入，牙关紧闭者不可用暴力助其张口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擦洗口腔时需用弯止血钳夹紧棉球，每次一个，放置棉球遗留在口腔内；擦拭过程中应注意棉球不能过湿，防止因水分过多造成误吸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床染病病人的用物按消毒隔离原则处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健康教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【评价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特殊口腔护理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第二节 头发护理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99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--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健康的头发：有光泽、浓密适度、分布均匀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清洁无头屑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--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保持头发的清洁、整齐，可以使人们增强自信，维护自尊，维持良好的外观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--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头发护理的目的：清除头屑、污垢及脱落的头发；按摩头部，促进头部血液循环，增进上皮细胞营养，促进头发生长，预防感染发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99"/>
                </a:solidFill>
                <a:latin typeface="Arial"/>
                <a:ea typeface="黑体"/>
              </a:rPr>
              <a:t>          </a:t>
            </a: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99"/>
                </a:solidFill>
                <a:latin typeface="Arial"/>
                <a:ea typeface="黑体"/>
              </a:rPr>
              <a:t>                                     </a:t>
            </a: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99"/>
                </a:solidFill>
                <a:latin typeface="Arial"/>
                <a:ea typeface="黑体"/>
              </a:rPr>
              <a:t>                      </a:t>
            </a: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4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一、床上梳头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【目的】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按摩头皮，促进血液循环；使病人整洁、 美观、舒适，促进身心健康；维护病人的自尊和自信，建立良好的护患关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【评估】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患者的病情及治疗情况；头发护理知识及自理能力；头发及头皮状况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【计划】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操作者准备；用物准备；病人准备；环境准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-9360"/>
            <a:ext cx="854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457200"/>
            <a:ext cx="8540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【实施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黑体"/>
              </a:rPr>
              <a:t>备物携至床旁，核对，解释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黑体"/>
              </a:rPr>
              <a:t>取体位，铺治疗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黑体"/>
              </a:rPr>
              <a:t>梳头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黑体"/>
              </a:rPr>
              <a:t>头部按摩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黑体"/>
              </a:rPr>
              <a:t>编辫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黑体"/>
              </a:rPr>
              <a:t>操作后处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52388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51460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342900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343400"/>
            <a:ext cx="360360" cy="380880"/>
          </a:xfrm>
          <a:prstGeom prst="downArrow">
            <a:avLst>
              <a:gd name="adj1" fmla="val 50000"/>
              <a:gd name="adj2" fmla="val 26424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334120"/>
            <a:ext cx="360360" cy="380880"/>
          </a:xfrm>
          <a:prstGeom prst="downArrow">
            <a:avLst>
              <a:gd name="adj1" fmla="val 50000"/>
              <a:gd name="adj2" fmla="val 26424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990720"/>
            <a:ext cx="854064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【注意事项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、勿用铁齿梳子，用圆钝梳，烫发及头发较多者用宽齿梳子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、动作轻，每次梳一小束，先梳发梢再到发根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、观察患者头发及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ea typeface="黑体"/>
                <a:hlinkClick r:id="rId2"/>
              </a:rPr>
              <a:t>头皮情况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。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二、床上洗头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洗头的频度取决于个人的日常习惯和头发的卫生状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对于出汗较多或头发上沾有各种污渍的患者，应增加洗头的次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长期卧床的患者，应每周洗发一次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遇有头虱的患者须经过灭虱处理后再将头发洗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根据现有条件可采取多种</a:t>
            </a:r>
            <a:r>
              <a:rPr b="1" lang="zh-CN" sz="3600" spc="-1" strike="noStrike" u="sng">
                <a:solidFill>
                  <a:srgbClr val="003399"/>
                </a:solidFill>
                <a:uFillTx/>
                <a:latin typeface="黑体"/>
                <a:ea typeface="黑体"/>
              </a:rPr>
              <a:t>洗头方法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543800" y="6095880"/>
            <a:ext cx="250920" cy="250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848720" y="6095880"/>
            <a:ext cx="250560" cy="250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8153280" y="6095880"/>
            <a:ext cx="250920" cy="250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8458200" y="6095880"/>
            <a:ext cx="25092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口腔的温度、湿度食物残渣及酸碱度等适宜微生物的生长，因此在口腔内有许多微生物，如链球菌、乳酸杆菌、假丝酵母菌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健康时人身体抵抗力强，加上进食、饮水、刷牙、漱口等活动起到减少或清除微生物的作用，故不会引起口腔感染等问题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个体患病时，食欲下降，抵抗力降低，细菌迅速繁殖，引起溃疡、炎症、异味等；长期应用抗生素，易并发真菌感染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4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二、床上洗头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85406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【目的】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按摩头皮，促进血液循环，头发的生长、代谢；清除头屑和污垢，使头发清洁，促进身心健康；建立良好的护患关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【评估】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患者的病情及意识；自理能力和头发情况，卫生习惯；接受与合作程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【计划】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操作者准备；用物准备；病人准备；环境准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-84960"/>
            <a:ext cx="854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380880"/>
            <a:ext cx="85406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【实施】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备物携至床旁，核对，解释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环境准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           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铺橡胶单及毛巾，取体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垫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黑体"/>
                <a:ea typeface="黑体"/>
                <a:hlinkClick r:id="rId2"/>
              </a:rPr>
              <a:t>马蹄形卷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，置头部于水槽，保护眼耳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    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           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黑体"/>
                <a:ea typeface="黑体"/>
                <a:hlinkClick r:id="rId3"/>
              </a:rPr>
              <a:t>洗头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擦干头发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操作后处理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黑体"/>
              </a:rPr>
              <a:t>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91440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182880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274320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365760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449568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533412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1810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609120"/>
            <a:ext cx="854064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【注意事项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、保暖，避免水溅入眼、耳内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、为防不适，洗头时间不宜过长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3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、洗头过程中随时观察病情变化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、极度虚弱病人</a:t>
            </a:r>
            <a:r>
              <a:rPr b="0" lang="zh-CN" sz="3600" spc="-1" strike="noStrike" u="sng">
                <a:solidFill>
                  <a:srgbClr val="dc5900"/>
                </a:solidFill>
                <a:uFillTx/>
                <a:latin typeface="Arial"/>
                <a:ea typeface="黑体"/>
                <a:hlinkClick r:id="rId2"/>
              </a:rPr>
              <a:t>不宜洗发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4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三、灭头虱、虮法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黑体"/>
              </a:rPr>
              <a:t>头虱生长于头发和头皮上，很小，呈卵圆形，浅灰色。其卵（虮）很像头屑，系固态颗粒，而不是薄鳞片，紧紧地粘在头发上，不易去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虱可通过衣服、床单、梳子等传播，还可传播疾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黑体"/>
              </a:rPr>
              <a:t>发现患者有虱应立即消灭虱、虮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4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三、灭头虱、虮法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【目的】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消灭头虱、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虮，促进舒适；预防人群间相互传染和传播疾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【评估】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患者的病情及接受与合作程度；头发、头皮情况及虱、虮分布情况；对头发清洁卫生的了解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【计划】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操作者准备；用物准备；病人准备；环境准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-475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304920"/>
            <a:ext cx="85406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【实施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操作者准备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备齐用物，携至床旁，核对并解释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擦拭药液（长发者剪发）并戴好帽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蓖虱、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黑体"/>
              </a:rPr>
              <a:t>虮并洗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黑体"/>
              </a:rPr>
              <a:t>消毒及操作后处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182880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289548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388620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502920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1924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533520"/>
            <a:ext cx="8540640" cy="55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【注意事项】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、防止药液污染面部及眼睛，注意观察病人局部及全身反应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、严格执行消毒隔离制度，防止医院感染发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第三节 皮肤护理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--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皮肤覆盖在人体表面，是人体最大的器官，由表皮和真皮、皮下组织构成，有毛发、汗腺、皮脂腺等附属物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--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健康皮肤的特点：温暖、柔软、不干燥、不油腻、肤色自然、无肿块、无丘疹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1924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40640" cy="53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皮肤的功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保护身体，以抵抗物理、化学、生物的伤害，在内外环境间起屏障保护作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维持体液与电解质的平衡，调节体温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排泄水分与废物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感受外界刺激，有冷、热、触、痛觉得感受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皮肤可以吸收紫外线，活化维生素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定期进行皮肤护理的目的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促进皮肤血液循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增强皮肤的排泄功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维持机体皮肤的完整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满足病人舒适、清洁的需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                   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预防感染和压疮等并发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一、口腔卫生指导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【目的】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使病人掌握口腔卫生保健知识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教会病人养成良好的口腔卫生清洁习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【评估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口腔清洁的方法及习惯，既往有无口腔不适等情况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的病情及自理程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口腔状况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评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一、盆浴与淋浴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【适用范围】病情较轻，能自理的病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【目的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清除污垢，保持皮肤清洁，使病人舒适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促进皮肤血液循环，增强皮肤的排泄功能，预防皮肤感染和压疮等并发症的发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观察身体一般情况，皮肤异常变化，提供疾病信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使肌肉得以放松，维持良好的精神状态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1924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685440"/>
            <a:ext cx="854064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【评估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的清洁习惯、病情状况、肢体活动能力、自理能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皮肤的情   如皮肤的清洁度，皮肤的颜色、温湿度、柔软度、厚度、弹性及气味等；皮肤的感觉功能有无异常；皮肤有无水肿、破损、斑点、丘疹、水泡和硬结等改变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及家属对皮肤清洁知识的了解程度和要求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-475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685440"/>
            <a:ext cx="854064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【计划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操作者准备    确定洗浴病人，洗浴时间及洗浴方法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用物准备     脸盆、毛巾、浴巾、浴澡或浴液、清洁衣裤和防滑拖鞋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准备     协助了解沐浴的目的，做好准备。沐浴须在进食后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小时进行，以免影响消化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环境准备    调节室温到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2℃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以上，水温维持在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40-45℃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，也可按病人习惯调节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-475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457200"/>
            <a:ext cx="85406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【实施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操作步骤              备物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                  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调节水温及室温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入浴室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沐浴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                  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帮助病人出浴室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观察、记录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整理浴室及用物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213372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129528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548640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472428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80988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297180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注意事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浴室放置防滑垫，配备防滑拖鞋，安全扶手，防止滑到跌伤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妊娠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个月以上的孕妇禁用盆浴，床上或患心脏病需卧床的病人，均不宜盆浴和淋浴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传染病人应根据病情、病种，按隔离原则进行沐浴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做好急救准备，出现晕厥应立即给与救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二、  床上擦浴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【适用范围】病情较重、长期卧床、活动受限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              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生活不能自理的病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【目的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去除皮肤污垢，保持皮肤清洁，增进病人舒适，满足病人身心需要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刺激皮肤血液循环，增强皮肤排泄功能，预防皮肤感染和压疮等并发症的发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观察病人的一般情况，活动肢体，防止肌肉挛缩和关节僵硬等并发症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-571680"/>
            <a:ext cx="854064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【评估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皮肤的清洁程度、皮肤有无异常改变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的清洁习惯、对清洁的需求程度、清洁知识的了解程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的病情状态、理解及合作能力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是否需要使用便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【计划】操作者准备、用物准备、病人准备、环境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准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1810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761760"/>
            <a:ext cx="8540640" cy="53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【实施】操作流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核对并解释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、洗手，关闭门窗，屏风遮挡，调节室温，按需给与便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、放床头、尾支架，送盖被，备水，盖浴毯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擦洗    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脸部及颈部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→上肢和手→胸腹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                  →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背部→下肢、足部及会阴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、洗毕，用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50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％的乙醇按摩骨骼隆突处，擦润肤剂，修剪指甲，梳头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整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洗手、记录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959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990720"/>
            <a:ext cx="854064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注意事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遵循节力原则，两脚稍分开，重心在身体中央或稍低处，拿盆时，将盆尽量靠近身体，减少体力消耗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2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根据水温和擦洗部位，及时更换或添加热水，更换面巾和毛巾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擦洗过程中注意观察病情变化及皮肤有无异常，若病人出现寒战、面色苍白等情况，应立即停止擦洗，适当处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操作时注意保护病人，维护病人自尊，尽可能减少暴露，防止受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女病人会阴部因采取冲洗法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4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三 背部护理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【目的】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促进皮肤的血液循环，预防并发症；观察病人一般情况，满足身心需要；活动背部肌肉，减少劳累与酸疼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【评估】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病人的病情、意识、卧床时间、卧位、背部皮肤的状况；病人的肢体活动能力、自理能力；对预防压疮知识的了解程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【计划】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操作者准备；用物准备；病人准备；环境准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1924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838080"/>
            <a:ext cx="854064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【计划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操作者准备   洗手、戴口罩，熟悉口腔卫生的相关知识，向病人解释口腔卫生的重要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用物准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）无菌治疗盘，内备（盛漱口溶液的治疗碗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个、吸水管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根、牙刷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把），外备（牙膏、毛巾、弯盘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）漱口溶液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1356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2280"/>
            <a:ext cx="85406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【实施】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、操作步骤：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核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            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环境准备，调节室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            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备水，协助患者取体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                  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清洁背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                  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按摩背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                  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穿衣服，取卧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                  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操作后处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10080" y="68580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167652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266688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365760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62720" y="464832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5562720"/>
            <a:ext cx="360360" cy="457200"/>
          </a:xfrm>
          <a:prstGeom prst="downArrow">
            <a:avLst>
              <a:gd name="adj1" fmla="val 50000"/>
              <a:gd name="adj2" fmla="val 31718"/>
            </a:avLst>
          </a:prstGeom>
          <a:solidFill>
            <a:srgbClr val="dc59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-84960"/>
            <a:ext cx="854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540640" cy="57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注意事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）若局部出现压疮早期症状，可用拇指指腹部以环形动作在其边缘正常皮肤处向外按摩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）护理过程中促进病人舒适，减少心理困扰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）按摩力量大小适中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健康教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【评价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4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第四节 压疮的预防与护理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一、压疮发生的原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二、压疮的好发部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三、压疮的分期及临床表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四、压疮的预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五、压疮的治疗和护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Arial"/>
                <a:ea typeface="黑体"/>
              </a:rPr>
              <a:t>压疮的定义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dc5900"/>
                </a:solidFill>
                <a:latin typeface="Arial"/>
                <a:ea typeface="黑体"/>
              </a:rPr>
              <a:t>压疮／褥疮／ 压力性溃疡：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是指身体局部组织长期受压，血液循环障碍，持续缺血、缺氧、营养不良，致使皮肤失去正常功能，而引起的组织破损和坏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4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Arial"/>
                <a:ea typeface="黑体"/>
              </a:rPr>
              <a:t>一、压疮发生的原因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黑体"/>
                <a:ea typeface="黑体"/>
              </a:rPr>
              <a:t>（一）力学因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导致压疮的主要物理力即：压力、剪切力、摩擦力。压疮不仅可由垂直压力引起，而且也可由摩擦力和剪切力引起，通常是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～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种力联合作用，导致皮肤受压，缺血、缺氧，抵抗力下降而引起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4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黑体"/>
                <a:ea typeface="黑体"/>
              </a:rPr>
              <a:t>（一）力学因素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压力（垂直压力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对局部组织的持续性垂直压力是引起压疮的最重要原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压疮的形成与压力的大小（持续性的垂直压力超过毛细血管压）和持续时间的长短（持续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2-4h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）有密切关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摩擦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  <a:ea typeface="黑体"/>
              </a:rPr>
              <a:t>由两层相互接触的表面发生相对移动时产生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  <a:ea typeface="黑体"/>
              </a:rPr>
              <a:t>摩擦力作用于皮肤，易损害皮肤的角质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黑体"/>
                <a:ea typeface="黑体"/>
              </a:rPr>
              <a:t>（一）力学因素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剪切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由于骨骼及深层组织的重力作用向下滑行，而皮肤及表层组织由于摩擦力的缘故仍停留在原位，使两层组织产生相对性移位而引起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两层组织间发生剪切力时，血管被拉长、扭曲、撕裂而发生深层组织坏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c5900"/>
                </a:solidFill>
                <a:uFillTx/>
                <a:latin typeface="宋体"/>
                <a:ea typeface="黑体"/>
                <a:hlinkClick r:id="rId2"/>
              </a:rPr>
              <a:t>剪切力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  <a:ea typeface="黑体"/>
              </a:rPr>
              <a:t>是由压力和摩擦力相加而成，与体位有密切关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黑体"/>
                <a:ea typeface="黑体"/>
              </a:rPr>
              <a:t>（二</a:t>
            </a:r>
            <a:r>
              <a:rPr b="1" lang="zh-CN" sz="4800" spc="-1" strike="noStrike">
                <a:solidFill>
                  <a:srgbClr val="dc5900"/>
                </a:solidFill>
                <a:latin typeface="黑体"/>
                <a:ea typeface="黑体"/>
              </a:rPr>
              <a:t>) </a:t>
            </a:r>
            <a:r>
              <a:rPr b="1" lang="zh-CN" sz="4800" spc="-1" strike="noStrike">
                <a:solidFill>
                  <a:srgbClr val="dc5900"/>
                </a:solidFill>
                <a:latin typeface="黑体"/>
                <a:ea typeface="黑体"/>
              </a:rPr>
              <a:t>局部潮湿或排泄物刺激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皮肤经常受到汗液、尿液、各种渗出引流液等物质的刺激而受潮，加之化学物质的刺激作用，出现酸碱度的改变，致使表皮角质层的保护能力下降，皮肤组织破溃，且很容易继发感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黑体"/>
                <a:ea typeface="黑体"/>
              </a:rPr>
              <a:t>（三）营养状况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营养状况是影响压疮形成的一个重要因素。全身营养障碍时，摄入不足，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Pr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合成减少，负氮平衡，皮下脂肪减少，肌肉萎缩，受压时缺乏肌肉和脂肪组织保护而引起血液循环障碍，出现压疮；过度肥胖者卧床时体重对皮肤的压力较大，也容易发生压疮；水肿病人也易发生压疮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38088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Arial"/>
                <a:ea typeface="黑体"/>
              </a:rPr>
              <a:t>（四）受限制的病人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应用石膏固定和牵引时，限制了患者身体或肢体的运动，特别是夹板内衬垫放置不当、石膏内不平整或有渣屑、矫形 器械固定过紧或肢体有水肿时，容易使肢体血液循环受阻，而导致压疮发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-475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457200"/>
            <a:ext cx="854064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0.9%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氯化钠溶液：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清洁口腔，预防感染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。口腔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pH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值为中性时适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0.02%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呋喃西林溶液；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清洁口腔，有广谱抗菌作用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。口腔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pH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值为中性时适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0.01%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的洗必泰溶液：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清洁口腔，有广谱抗菌作用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。口腔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pH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值为中性时适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1%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～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3%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过氧化氢溶液：遇有机物时放出新生氧，有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抗菌、防臭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作用。口腔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pH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值偏酸性时适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1%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～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4%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碳酸氢钠溶液：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属碱性药剂，用于真菌感染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。口腔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pH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值偏酸性时适用。</a:t>
            </a: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黑体"/>
                <a:ea typeface="黑体"/>
              </a:rPr>
              <a:t>（五）年龄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老年人皮肤松弛、干燥，缺乏弹性，皮下脂肪萎缩、变薄，皮肤易损性增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黑体"/>
                <a:ea typeface="黑体"/>
              </a:rPr>
              <a:t>（六）体温升高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体温升高时，机体的新陈代谢率增高，组织细胞对氧的需要增加。加之身体局部组织受压，使已有的组织缺氧更加严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30492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Arial"/>
                <a:ea typeface="黑体"/>
              </a:rPr>
              <a:t>二、压疮的</a:t>
            </a:r>
            <a:r>
              <a:rPr b="0" lang="zh-CN" sz="4800" spc="-1" strike="noStrike" u="sng">
                <a:solidFill>
                  <a:srgbClr val="dc5900"/>
                </a:solidFill>
                <a:uFillTx/>
                <a:latin typeface="Arial"/>
                <a:ea typeface="黑体"/>
                <a:hlinkClick r:id="rId2"/>
              </a:rPr>
              <a:t>好发部位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40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压疮好发于受压且缺乏脂肪组织保护、无肌肉包裹或肌层较薄的骨隆突处。发生部位与体位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ea typeface="黑体"/>
                <a:hlinkClick r:id="rId3"/>
              </a:rPr>
              <a:t>关系密切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仰卧位：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枕骨粗隆、肩胛骨、肘部、骶尾部、足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侧卧位：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耳廓、肩峰、肋骨、股骨粗隆、膝关节内外侧、内外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俯卧位：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面颊、耳廓、肩峰、女性的乳房、肋缘突出处、男性生殖器、髂前上棘、膝部、足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坐位：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肩胛骨、肘部、坐骨结节、足跟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Arial"/>
                <a:ea typeface="黑体"/>
              </a:rPr>
              <a:t>三、压疮的分期及临床表现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  <a:ea typeface="黑体"/>
              </a:rPr>
              <a:t>Ⅰ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期：瘀血红润期／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  <a:ea typeface="黑体"/>
              </a:rPr>
              <a:t>Ⅰ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度压疮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此期为压疮初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身体局部组织受压，血液循环障碍，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皮肤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出现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红（暗红）、肿、热、痛或麻木，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解除压力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30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分钟后，皮肤颜色不能恢复正常。皮肤完整性未破坏，为可逆性改变，去除致病原因，可组织压疮发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Arial"/>
                <a:ea typeface="黑体"/>
              </a:rPr>
              <a:t>三、压疮的分期及临床表现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宋体"/>
                <a:ea typeface="黑体"/>
              </a:rPr>
              <a:t>Ⅱ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  <a:ea typeface="黑体"/>
              </a:rPr>
              <a:t>期：炎性浸润期／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  <a:ea typeface="黑体"/>
              </a:rPr>
              <a:t>Ⅱ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  <a:ea typeface="黑体"/>
              </a:rPr>
              <a:t>度压疮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黑体"/>
              </a:rPr>
              <a:t>皮肤的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  <a:ea typeface="黑体"/>
              </a:rPr>
              <a:t>表皮层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  <a:ea typeface="黑体"/>
              </a:rPr>
              <a:t>真皮层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黑体"/>
              </a:rPr>
              <a:t>或两者发生损伤或坏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黑体"/>
              </a:rPr>
              <a:t>受压部位呈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  <a:ea typeface="黑体"/>
              </a:rPr>
              <a:t>紫红色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黑体"/>
              </a:rPr>
              <a:t>，皮下产生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  <a:ea typeface="黑体"/>
              </a:rPr>
              <a:t>硬结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黑体"/>
              </a:rPr>
              <a:t>，常有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  <a:ea typeface="黑体"/>
              </a:rPr>
              <a:t>水泡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黑体"/>
              </a:rPr>
              <a:t>形成，极易破溃形成潮湿红润的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  <a:ea typeface="黑体"/>
              </a:rPr>
              <a:t>创面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黑体"/>
              </a:rPr>
              <a:t>。患者有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  <a:ea typeface="黑体"/>
              </a:rPr>
              <a:t>疼痛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4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Arial"/>
                <a:ea typeface="黑体"/>
              </a:rPr>
              <a:t>三、压疮的分期及临床表现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29492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Ⅲ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期：浅度溃疡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全层皮肤破坏，可深及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皮下组织和深层组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表皮</a:t>
            </a:r>
            <a:r>
              <a:rPr b="1" lang="zh-CN" sz="2800" spc="-1" strike="noStrike">
                <a:solidFill>
                  <a:srgbClr val="dc5900"/>
                </a:solidFill>
                <a:latin typeface="黑体"/>
                <a:ea typeface="黑体"/>
              </a:rPr>
              <a:t>水泡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逐渐扩大、</a:t>
            </a:r>
            <a:r>
              <a:rPr b="1" lang="zh-CN" sz="2800" spc="-1" strike="noStrike">
                <a:solidFill>
                  <a:srgbClr val="dc5900"/>
                </a:solidFill>
                <a:latin typeface="黑体"/>
                <a:ea typeface="黑体"/>
              </a:rPr>
              <a:t>破溃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，真皮层疮面有黄色</a:t>
            </a:r>
            <a:r>
              <a:rPr b="1" lang="zh-CN" sz="2800" spc="-1" strike="noStrike">
                <a:solidFill>
                  <a:srgbClr val="dc5900"/>
                </a:solidFill>
                <a:latin typeface="黑体"/>
                <a:ea typeface="黑体"/>
              </a:rPr>
              <a:t>渗出液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，感染后表面有</a:t>
            </a:r>
            <a:r>
              <a:rPr b="1" lang="zh-CN" sz="2800" spc="-1" strike="noStrike">
                <a:solidFill>
                  <a:srgbClr val="dc5900"/>
                </a:solidFill>
                <a:latin typeface="黑体"/>
                <a:ea typeface="黑体"/>
              </a:rPr>
              <a:t>脓液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覆盖，致使浅层组织坏死，形成</a:t>
            </a:r>
            <a:r>
              <a:rPr b="1" lang="zh-CN" sz="2800" spc="-1" strike="noStrike">
                <a:solidFill>
                  <a:srgbClr val="dc5900"/>
                </a:solidFill>
                <a:latin typeface="黑体"/>
                <a:ea typeface="黑体"/>
              </a:rPr>
              <a:t>溃疡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dc5900"/>
                </a:solidFill>
                <a:latin typeface="黑体"/>
                <a:ea typeface="黑体"/>
              </a:rPr>
              <a:t>疼痛感加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Ⅳ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期：坏死溃疡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为压疮严重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坏死组织侵入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真皮下层和肌肉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感染可向周边及深部扩展，可深达骨面。脓液较多，坏死组织发黑，脓性分泌物增多，有臭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严重者细菌入血易引起脓毒／败血症，造成全身感染，危及生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Arial"/>
                <a:ea typeface="黑体"/>
              </a:rPr>
              <a:t>四、压疮的预防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85406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（一）评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压疮发生的原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易患部位的皮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高危患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、偏瘫、截瘫、昏迷等失去知觉的病人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、活动能力差的老年卧床病人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、极度瘦弱的病人、高度超重增加了持重部位压力的肥胖病人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高热多汗、大小便失禁等经常受潮湿等刺激的病人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石膏、牵引及应用夹板及特殊约束的病人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营养不良的人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疼痛患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使用镇静药患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如已发生压疮，应评估压疮的分期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Arial"/>
                <a:ea typeface="黑体"/>
              </a:rPr>
              <a:t>四、压疮的预防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（二）预防措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预防压疮的关键在于消除诱发因素，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避免局部组织长期受压。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七勤：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勤观察、勤翻身、勤按摩、勤擦洗、勤更换、勤整理、勤交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、避免局部长期受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  <a:ea typeface="黑体"/>
              </a:rPr>
              <a:t>鼓励和协助卧床病人经常更换卧位，减少组织受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  <a:ea typeface="黑体"/>
              </a:rPr>
              <a:t>保护骨隆突处和支持身体空隙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  <a:ea typeface="黑体"/>
              </a:rPr>
              <a:t>正确使用石膏、绷带及夹板固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c5900"/>
                </a:solidFill>
                <a:uFillTx/>
                <a:latin typeface="黑体"/>
                <a:ea typeface="黑体"/>
                <a:hlinkClick r:id="rId2" action="ppaction://hlinksldjump"/>
              </a:rPr>
              <a:t>避免力学因素的综合作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黑体"/>
                <a:ea typeface="黑体"/>
              </a:rPr>
              <a:t>避免力学因素的综合作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4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患者半卧位时，床头抬高不超过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45°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，支起膝下支架防止身体下滑移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协助患者翻身、变换体位或搬运患者时，应将患者的身体抬离床面，避免拖、拉、推等动作，以免形成摩擦力而损伤皮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⑥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%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%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硼酸溶液：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属酸性防腐剂，可改变细菌的酸碱平衡，起抑菌作用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。口腔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pH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值偏碱性时适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⑦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0.1%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醋酸溶液：用于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铜绿假单胞菌感染时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。口腔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pH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值偏碱性时适用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⑧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0.08%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的甲硝唑溶液：用于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厌氧菌感染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⑨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中药漱口液：用于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清热、解毒、消肿、止痛、抗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黑体"/>
                <a:ea typeface="黑体"/>
              </a:rPr>
              <a:t>（二）预防措施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、避免局部理化因素刺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保持皮肤清洁干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宋体"/>
                <a:ea typeface="黑体"/>
              </a:rPr>
              <a:t>高热病人出汗后及时擦干，更换衣裤和床单；大小便失禁的病人及时用温水清洗会阴部和臀部；更换尿垫和床单，做好皮肤护理。严禁让病人直接卧于橡胶单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  <a:ea typeface="黑体"/>
              </a:rPr>
              <a:t>／塑料布上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保持床单、被褥清洁、干燥、平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不使用脱瓷或损坏的便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使用时，应协助患者抬高臀部，不可硬塞、硬拉，必要时在便盆边缘垫以软纸、布垫或撒滑石粉，防止擦伤皮肤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-9360"/>
            <a:ext cx="854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3045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、促进局部血液循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对长期卧床的患者，定期进行温水擦浴，按摩受压局部骨隆突处，每日进行主动或被动的全范围关节运动练习，以维持关节的活动性和肌肉张力，促进肢体的血液循环，减少压疮发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、改善机体营养状况，供给合理的营养和水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合理的膳食是改进患者营养状况、促进创面愈合的重要条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对易出现压疮的患者应给予高蛋白、高热量、高维生素的饮食，保证正氮平衡，促进创面愈合，增强机体抵抗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水肿病人限制水和盐的摄入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脱水病人及时补充水和电解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959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685440"/>
            <a:ext cx="854064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dc5900"/>
                </a:solidFill>
                <a:latin typeface="黑体"/>
                <a:ea typeface="黑体"/>
              </a:rPr>
              <a:t>、鼓励、协助病人增加活动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尽量避免使用约束带和镇静剂，依病情协助病人活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鼓励病人尽早离床活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dc5900"/>
                </a:solidFill>
                <a:latin typeface="黑体"/>
                <a:ea typeface="黑体"/>
              </a:rPr>
              <a:t>、增加病人及家属有关健康知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使患者及家属有效地参与或独立地采取预防压疮的措施，使其了解压疮发生、发展及预防和护理知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38088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Arial"/>
                <a:ea typeface="黑体"/>
              </a:rPr>
              <a:t>五、压疮的治疗与护理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宋体"/>
                <a:ea typeface="黑体"/>
              </a:rPr>
              <a:t>（一）瘀血红润期：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关键是去除危险因素，防止压疮继续发展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措施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是增加翻身次数，避免局部受压及受潮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依病情涂擦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2﹪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碘酊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加强营养，改善全身营养状况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4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Arial"/>
                <a:ea typeface="黑体"/>
              </a:rPr>
              <a:t>五、压疮的治疗与护理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8540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  <a:ea typeface="黑体"/>
              </a:rPr>
              <a:t>（二）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  <a:ea typeface="黑体"/>
              </a:rPr>
              <a:t>炎性浸润期：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黑体"/>
              </a:rPr>
              <a:t>（重点是保护创面，防止感染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措施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采取一期措施避免损伤继续发展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无菌纱布包扎细小水泡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用无菌注射器抽吸大水泡内液体并包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消毒创面及其周围皮肤，用无菌敷料包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紫外线、红外线照射治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人工细胞生长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Arial"/>
                <a:ea typeface="黑体"/>
              </a:rPr>
              <a:t>五、压疮的治疗与护理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  <a:ea typeface="黑体"/>
              </a:rPr>
              <a:t>（三）浅度溃疡期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（此期应尽量保持局部创面清洁、干燥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措施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清创后用无菌敷料包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以鹅颈灯距疮面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25cm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照射疮面，每日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～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次，每次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～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分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还可采用鸡蛋内膜、纤维蛋白膜、骨胶原膜等贴于疮面治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4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Arial"/>
                <a:ea typeface="黑体"/>
              </a:rPr>
              <a:t>五、压疮的治疗与护理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  <a:ea typeface="黑体"/>
              </a:rPr>
              <a:t>（四）坏死溃疡期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（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黑体"/>
              </a:rPr>
              <a:t>此期应清洁疮面，去除坏死组织，保持引流通畅，促进肉芽组织生长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措施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清创，去除坏死组织，促进肉芽组织生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  <a:ea typeface="黑体"/>
              </a:rPr>
              <a:t>采用清热解毒、活血化瘀、去腐生肌具有收敛作用的中草药治疗是目前最有效的方法之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  <a:ea typeface="黑体"/>
              </a:rPr>
              <a:t>氧气治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  <a:ea typeface="黑体"/>
              </a:rPr>
              <a:t>植皮、修补缺损组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五节 晨晚间护理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根据病情需要，为危重、昏迷、瘫痪、高热、大手术后或年老体弱等不能自理的病人，于晨间或晚间所进行的生活护理，称为晨晚间护理。轻病人的晨晚间护理，可在护士的指导或协助下进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一、晨间护理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晨间护理一般于清晨诊疗工作前完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【目的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使病人清洁、舒服，预防压疮及肺炎等病状的发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观察、了解病情，为诊断、治疗和护理计划的制订提供依据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进行心理护理及卫生宣传，满足病人心理需求，增进患者沟通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保持病室和病床整洁、美观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【评估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的病情、心理反应、自理能力、合作程度及清洁需要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口腔情况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衣物及床单的清洁程度及皮肤受压情况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是否需要便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）常用药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锡类散、新霉素、口腔薄膜、制霉菌素甘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油、西瓜霜、金霉素甘油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准备   取得配合，病情应许取半坐卧位，仰卧位的病人头偏向一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环境准备   环境清洁、空气清新，去除不良气味和不良视觉刺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01680" y="533520"/>
            <a:ext cx="8540640" cy="55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【实施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问候病人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协助病人排便，刷牙、漱口（口腔护理）、洗脸、洗手、梳头、翻身，检查病人皮肤受压情况，进行背部护理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需要更换衣、被、床单等，整理床单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观察病情，了解病人夜间睡眠情况，进行心理护理和健康指导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酌情开窗通风，保持病室空气新鲜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二、晚间护理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为了使病人清洁舒适地入睡，应认真地进行晚间护理（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evening care)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。特别是危重病人，通过护理可以减轻和消除白天因诊治疾病所带来的痛苦，以及亲友探视带来的疲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1680" y="609120"/>
            <a:ext cx="854064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【目的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保持病室、病床整洁，空气新鲜，使病人清洁、舒适、易于入睡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观察、了解病人和病人心理需求，做好心理护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预防压疮发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01680" y="457200"/>
            <a:ext cx="854064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【评估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的病情、心理反应、自理能力、合作程度及清洁需要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入睡情况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口腔情况（见第一节口腔护理评估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衣物及床单的清洁程度及皮肤受压况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病人是否需要便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01680" y="457200"/>
            <a:ext cx="854064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【实施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协助病人排便，刷牙、漱口（口腔护理）、洗脸、洗手、擦洗背部、热水泡脚、女病人给予会阴部的清洁护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检查病人皮肤受压情况，按摩背部和骨骼隆突出部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整理床单位、需要更换衣、被、床单等，根据气温增减盖被、保持床单平、紧、五褶皱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酌情开关窗，保持室内安静，消除噪音。关大灯，开地灯，使病室光线暗淡，创造良好的睡眠环境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301680" y="685440"/>
            <a:ext cx="854064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经常巡视病房，观察病情，了解病人夜间睡眠情况，如病人因精神紧张、疼痛等原因不能入眠，遵医嘱予以处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-475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761760"/>
            <a:ext cx="8540640" cy="53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【实施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操作步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▲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刷牙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携用物至床旁，解释，取合适卧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准备好牙具，放弯盘于病人口角 旁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协助病人用吸水管吸漱口溶液漱口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将牙刷轻轻放于牙齿周围的龈沟上，牙刷的毛面与牙齿呈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45°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，环形来回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震颤刷牙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用牙刷毛面的尖端以环形震颤法刷洗牙齿内侧面与咬合面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5-13T15:38:4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