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F68-630B-4C27-86D3-5B5FA384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A22-27D4-48D4-AF78-244B65C7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D5F-8FF8-4D25-81E0-444A9B8D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07D-9730-4716-8ADE-85C3978D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8CAC-5763-4624-830A-D280C771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26B-49F1-4D35-BF12-31109DDC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2AD-1EBA-4094-B8C6-773B03F0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9B1-FD01-4838-8C4B-9AFDEE59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8AC-A602-4C81-A5F6-B888F6B3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CA1-D1FD-487E-98E6-1E0F0854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8DA-89D6-44D5-B2E2-4946E79B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2B1-A997-4927-92B6-26E5FD37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20A9-0994-412C-B349-56EC29CC09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第二章     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      环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节  医院环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医院环境的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★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证病人安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★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满足病人舒适的需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★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持病室环境整洁和安静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 、  医院的物理环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一）空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对病人的影响：空间狭小，病人隐私得不到保护，个人的各类活动受到限制容易使病人产生“社交隔离感”，进而病人会有紧张、压抑、不安全等感觉，从而影响休息和健康的恢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措施：①病床之间的距离不少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床与床之间应有围帘，必要时进行遮挡，保护病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供一个供病人活动的空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二）温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理想值：一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2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新生儿室、老年病室可适当升高保持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4 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对病人的影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室温过高：会使神经系统受到抑制，干扰消化及呼吸功能，不利于体热的散发，影响体力恢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室温过低：则因冷的刺激，使人畏缩，缺乏动力，在护理和治疗时又易使病人受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室内备温度计，以随时评估室内温度进行调节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夏季酷热，一般采用开窗通风、电风扇、室内放置冰块等降低室内温度的措施，达到促进舒适的目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冬季严寒，室内多用暖气设备保持温度，农村和基层可用火炉、火墙取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据季节变化增减病人的盖被和衣服，执行护理活动时，避免不必要的暴露，防止病人受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三）湿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理想值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为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对病人的影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湿度过高，蒸发作用弱，可抑制出汗，病人感到潮湿，气闷，尿液排出量增加，加重肾脏负担，此外使细菌繁殖增加，导致院内感染增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湿度过低，空气干燥，人体蒸发大量水分，引起口干舌燥，咽痛，烦渴等表现，对呼吸道疾患或气管切开病人尤其不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室内配有湿度计，以便护士根据评估病室湿度的情况进行调节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当室内湿度大于室外时，使用空气调节器或抽湿器进行调节，也可打开门窗是空气流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室内湿度过低时，可在地面洒水，使用加湿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冬天可在暖气或火炉上安放水槽、水壶等蒸发水分，已达到提高室内湿度的目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皮肤出汗较多时及时给与清洁，皮肤干燥时涂抹乳液增加湿度，以促进病人舒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四）通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不洁空气对病人的影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空气污浊，氧气不足时，病人可出现头晕、烦躁、疲乏和食欲不振等症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室内空气种微生物的密度增加时，可能导致呼吸道感染，加重病情，影响病人恢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措施：每天定时通风换气，时间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为宜，同时注意保护遮挡病人，避免直接吹风，导致感冒的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五）光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对病人的影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光线不足会影响病人的活动，甚至导致意外的发生，长期作用会出现眼镜疲劳、头痛、视力受损等症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光线过亮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时光源不断，也会影响人的休息和睡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经常开启病室门窗，或协助病人到户外活动接受阳光照射，但避免光线直接照射病人眼睛，以免引起眩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病人休息时，可用窗帘遮挡光线或是用眼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楼梯间、治疗室、抢救室、监护室内的光线要明亮，普通病室除有吊灯外，还应有床头灯、地灯装置，保证病人自用和夜间巡视，又不影响病人的睡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掌握医院的物理环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熟悉环境的含义与范围；环境中影响健康的常见因素；医院的社会环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了解护理与环境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六）音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理想值：白天病室较理想的噪音强度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对病人的影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贝，病人感觉疲倦不安，休息和睡眠受到影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贝以上时，能导致耳鸣、血压升高、肌肉紧张，以及焦躁、头痛、易怒、失眠等症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贝以上时，造成高频率的听力丧失，甚至永久性失聪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完全没有声音也会使人产生意识模糊或“完全”寂寞的感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尽量做到四轻：说话轻、走路轻、操作轻、关门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病室门窗和桌、椅脚应垫上橡皮垫，推车的轮轴应定期检查并润滑，以减少噪音的产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向病人家属宣传保持病室安静的重要性，共同保持病室安静，创造一个良好的休养环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床头增设耳机装置，通过医院广播播放轻松愉悦的节目，丰富病人休养生活，减少寂寞感的产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七）装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对病人的影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白色→冷漠、单调，以刺激眼睛产生疲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红色→兴奋、烦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绿色→安静、舒适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蓝色→心胸开阔、情绪稳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黄色→兴奋刺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措施：根据各病室的不同需求来设计和配备不同颜色，并应用各式图画、各种颜色的窗帘、被单等来布置病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934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467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医院的社会环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人际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护患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病友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病人与其他人员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二）医院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医院环境的调控中人际关系主要的影响源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语言：在护患之间，语言是特别敏感的刺激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行为举止：行为是人在思想支配下的活动，是思想的外在表现，也是人际间思想交流的另一种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绪：护理人员在工作中的情绪对病人有很大的感染力，护士的积极情绪可使病人乐观开朗，消极的情绪会影响病人变得悲观焦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工作态度：严肃认真，一丝不苟的工作态度可使病人获得安全感、信赖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节  提供舒适的病人单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病人床单位及其设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病人床单位是指在住院期间医疗机构提供给病人使用的家具和设备，它是病人休息、睡眠、饮食、排泄、护理和治疗的最基本的生活单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5715000" cy="4819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638680" y="197316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220176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一节   环境与健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环境的含义与范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环境的含义及相关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环境的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常是指人类和动、植物赖于生存和发展的空间及外部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WHO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实在特定时刻的物理、化学、生物及社会的各种因素构成的整体状态，这些因素可能对生命机体或人类活动产生直接或间接的作用，其影响可能是现实的或远期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一）病人床单位的设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病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原则：实用、耐用、安全、舒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点：①能升降高度的病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够调整床上下部分的高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装置轮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床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3246480"/>
            <a:ext cx="302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3520" y="-68400"/>
            <a:ext cx="693396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床上用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床垫：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9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床褥：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9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棉胎：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3 m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6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枕芯：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6 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单：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5 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7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套：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5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7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枕套 ：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65 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45 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单：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7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8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橡胶单：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85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65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长的两端各加棉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床旁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床旁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床上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床头墙壁上的装置：床头灯、呼叫系统、中央供氧、中央负压吸引、插座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二）各单的折叠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    铺床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常用的铺床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备用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暂空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麻醉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卧床病人床的整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卧床病人更换床单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备用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447920" y="2357280"/>
            <a:ext cx="5867280" cy="3826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546880" y="177480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暂空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38080" y="2089080"/>
            <a:ext cx="6172200" cy="3741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098960" y="1393920"/>
            <a:ext cx="2530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麻醉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14400" y="2147760"/>
            <a:ext cx="57150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备用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目的】保持病室整洁、美观，准备接收新病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评估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病室内病人有无进行治疗或进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病床及床垫是否完好、安全，床单、被套是否符合床及棉胎的尺寸以及季节需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床旁设施如呼叫系统、照明灯是否完好，供氧和负压吸引管道是否通畅，有无漏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计划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护士准备  洗净双手，戴口罩，着装整齐。熟悉铺备用床的操作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物准备   床褥、大单、被套、棉胎、枕套、枕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环境准备   病室内无病人进餐或治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护理学的四个基本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：护理学研究的对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环境：人的生命活动过程进行的场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健康；护理活动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护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实施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洗手，戴口罩，按使用顺序备好用物携至床旁，再次检查床垫有无凹陷，根据需要更换或翻转床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固定脚轮，调整床的高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移开床旁桌离床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㎝，移床旁椅至床尾正中，离床尾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床褥齐头平铺在床垫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所有用物放在床旁椅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铺大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铺盖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套枕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移回床旁桌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收拾好用物，洗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病室内有病人进餐或治疗时应暂停铺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物准备要齐全，并按使用顺序放置，减少走动的次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中动作要轻稳，避免尘埃飞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中正确应用节力原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评价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病床符合实用、耐用、舒适、安全原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单中缝对其，四角平整，两缘内折对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被头充实，盖被平整，紧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枕头平整充实，开口侧背门放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流畅，注意节省体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病室及病人床单位环境整洁、美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环境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按人类活动对环境的影响程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生环境：天然形成的、未受人为因素影响的 自然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生环境：在人为影响下形成的或经人工改造了的自然环境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3048120"/>
            <a:ext cx="5486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生态系统与生态平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态系统：生物与环境通过物质循环，能量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流动和信息联系共同构成的结合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态平衡：生态系统内部自然的、动态的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平衡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二）环境的范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环境（人体细胞所出的环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理环境：人体内的各个系统之间相互作用以维持身体的生理平衡，并与外环境进行物质、能量和信息交换，以适应外环境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心理环境：指一个人的心理状态，由于个体的先天遗传和后天成长环境的不同，而形成不同的个性心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819520"/>
            <a:ext cx="227160" cy="1495440"/>
          </a:xfrm>
          <a:custGeom>
            <a:avLst/>
            <a:gdLst>
              <a:gd name="textAreaLeft" fmla="*/ 145080 w 227160"/>
              <a:gd name="textAreaRight" fmla="*/ 227520 w 227160"/>
              <a:gd name="textAreaTop" fmla="*/ 38880 h 1495440"/>
              <a:gd name="textAreaBottom" fmla="*/ 1456560 h 149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然环境：指人类周围的客观物质条件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社会环境：指人类在生活、生产和社会交往活动中所形成的关系与条件，由社会政治，经济、文化、人口、卫生服务以及生活方式等因素构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28600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 、 环境中影响健康的常见因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733920"/>
            <a:ext cx="754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981080"/>
            <a:ext cx="225720" cy="2133720"/>
          </a:xfrm>
          <a:custGeom>
            <a:avLst/>
            <a:gdLst>
              <a:gd name="textAreaLeft" fmla="*/ 144360 w 225720"/>
              <a:gd name="textAreaRight" fmla="*/ 226080 w 2257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17524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然因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1447920"/>
            <a:ext cx="225360" cy="990360"/>
          </a:xfrm>
          <a:custGeom>
            <a:avLst/>
            <a:gdLst>
              <a:gd name="textAreaLeft" fmla="*/ 144000 w 225360"/>
              <a:gd name="textAreaRight" fmla="*/ 225720 w 2253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12193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然地质地貌及气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2286000"/>
            <a:ext cx="34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环境污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2057400"/>
            <a:ext cx="100080" cy="914400"/>
          </a:xfrm>
          <a:custGeom>
            <a:avLst/>
            <a:gdLst>
              <a:gd name="textAreaLeft" fmla="*/ 64080 w 100080"/>
              <a:gd name="textAreaRight" fmla="*/ 100440 w 1000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19051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气污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水体污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噪音污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辐射污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3809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社会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3276720"/>
            <a:ext cx="83880" cy="1371600"/>
          </a:xfrm>
          <a:custGeom>
            <a:avLst/>
            <a:gdLst>
              <a:gd name="textAreaLeft" fmla="*/ 53640 w 83880"/>
              <a:gd name="textAreaRight" fmla="*/ 84240 w 838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27672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社会经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化教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医疗卫生保健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劳动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际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3-07T11:30:3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