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C08-EC08-4890-8883-AE1F2A7E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FE4-C956-4D85-8E52-0B0F9E7C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ADC-2C88-4B06-AD6B-F043B633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C31-7035-4AB1-9BBF-CF9178A9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ED0E-7F1F-465E-8EB9-8D5137CB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AC0E-815F-4D77-BE4C-C4584381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70CF-FD8A-445F-80C4-6B8F8644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C781-3219-4AAC-B739-30709075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FCC3-D506-4003-85D2-39A53F34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C8AD-DD4C-49A4-AE49-D441DB36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3AA8-74A7-421D-B9B0-E1DE3EE4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1C0-A976-4056-AD12-49FA9DD5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D8EC-292F-4AB5-9286-F275CD55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023C-E4C6-4FF4-B6F4-2A62980D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1058-C396-407B-8A57-C1C855EE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864F-9B2B-45CD-A1D3-4CDCBF90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D9F0-9F00-433D-BF71-F98B4844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7EF-C859-48A6-9411-AC19880B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C73-BC06-4670-A56A-10766857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5D2-D69E-4F4F-9584-946C46C0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91D-F437-4198-B58D-EC63EF79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9AE-BCEC-49B8-8FB4-7726D794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FD3-FDEA-49BC-BE82-6A252AA1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40B-5981-45B9-B38D-6B9A4408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05080" y="685800"/>
            <a:ext cx="4114800" cy="31240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392200" y="0"/>
            <a:ext cx="309384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EE1D-227B-4A1A-A252-7E970F83A49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4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3ABE-7D33-4E50-8FA0-00176BD8F9F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2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62064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第十六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62064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临终护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77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189000"/>
            <a:ext cx="5329440" cy="1439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脑死亡的标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1773360"/>
            <a:ext cx="6767640" cy="41767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脑死亡即全脑死亡。不可逆的脑死亡是生命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结束的象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对刺激无感受性及反应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无运动，无呼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无反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脑电波平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上述标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小时内反复复查无改变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并排除体温过低及中枢神经系统抑制剂的影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既可作出脑死亡的诊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04640"/>
            <a:ext cx="914400" cy="91440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6920" y="189000"/>
            <a:ext cx="4321440" cy="1328760"/>
          </a:xfrm>
          <a:prstGeom prst="rect">
            <a:avLst/>
          </a:prstGeom>
          <a:gradFill rotWithShape="0">
            <a:gsLst>
              <a:gs pos="0">
                <a:srgbClr val="6b5f6f"/>
              </a:gs>
              <a:gs pos="50000">
                <a:srgbClr val="eacff1"/>
              </a:gs>
              <a:gs pos="100000">
                <a:srgbClr val="6b5f6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05c"/>
                </a:solidFill>
                <a:latin typeface="Times New Roman"/>
              </a:rPr>
              <a:t>三、死亡过程的分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1628640"/>
            <a:ext cx="8642160" cy="4896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（一）濒死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濒死期又称临终状态，是死亡过程的开始阶段。此时机体各系统的功能严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紊乱，脑干以上中枢神经系统功能处于抑制状态。表现为意识模糊或丧失，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种反射减弱或迟钝，肌张力减弱或消失，心跳减弱，血压下降，呼吸微弱或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现间断呼吸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（二）临床死亡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此期延髓处于深度抑制状态。表现为心跳、呼吸停止，各种反射消失，瞳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散大固定，但各种组织细胞仍有微弱而短暂的代谢活动，持续时间极短，一般</a:t>
            </a:r>
            <a:r>
              <a:rPr b="1" lang="en-US" sz="2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6min</a:t>
            </a:r>
            <a:r>
              <a:rPr b="1" lang="zh-CN" sz="2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在低温条件下，此期可延长达</a:t>
            </a:r>
            <a:r>
              <a:rPr b="1" lang="en-US" sz="2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1h</a:t>
            </a:r>
            <a:r>
              <a:rPr b="1" lang="zh-CN" sz="2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或更久，超过这个时期大脑将出现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可逆的变化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（三）生物学死亡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此期是死亡过程的最后阶段。神经系统以及各器官的新陈代谢相继停止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并出现不可逆的变化，相继出现尸冷、尸斑、尸僵、尸体腐败等现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732720" y="1916280"/>
            <a:ext cx="1871640" cy="287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四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临终病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家属的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抚及护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476280"/>
            <a:ext cx="6120000" cy="115236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节  临终病人和家属的护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84360" y="1844640"/>
            <a:ext cx="5832360" cy="2950920"/>
            <a:chOff x="684360" y="1844640"/>
            <a:chExt cx="5832360" cy="2950920"/>
          </a:xfrm>
        </p:grpSpPr>
        <p:sp>
          <p:nvSpPr>
            <p:cNvPr id="128" name=""/>
            <p:cNvSpPr/>
            <p:nvPr/>
          </p:nvSpPr>
          <p:spPr>
            <a:xfrm>
              <a:off x="4861080" y="1844640"/>
              <a:ext cx="1655640" cy="28796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6b5f6f"/>
                </a:gs>
                <a:gs pos="50000">
                  <a:srgbClr val="eacff1"/>
                </a:gs>
                <a:gs pos="100000">
                  <a:srgbClr val="6b5f6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ff"/>
                  </a:solidFill>
                  <a:latin typeface="Times New Roman"/>
                </a:rPr>
                <a:t>三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ff"/>
                  </a:solidFill>
                  <a:latin typeface="Times New Roman"/>
                </a:rPr>
                <a:t>临终病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ff"/>
                  </a:solidFill>
                  <a:latin typeface="Times New Roman"/>
                </a:rPr>
                <a:t>的心理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ff"/>
                  </a:solidFill>
                  <a:latin typeface="Times New Roman"/>
                </a:rPr>
                <a:t>化及护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72000" y="1844640"/>
              <a:ext cx="1728720" cy="28796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6c6e52"/>
                </a:gs>
                <a:gs pos="50000">
                  <a:srgbClr val="ebefb3"/>
                </a:gs>
                <a:gs pos="100000">
                  <a:srgbClr val="6c6e5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二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临终病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的生理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化及护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1844640"/>
              <a:ext cx="1728720" cy="29509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2b2b2b"/>
                </a:gs>
                <a:gs pos="50000">
                  <a:srgbClr val="5f5f5f"/>
                </a:gs>
                <a:gs pos="100000">
                  <a:srgbClr val="2b2b2b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684360" y="602136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900000" y="2421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  <a:effectLst>
            <a:outerShdw dist="17819" dir="2700000" blurRad="0" rotWithShape="0">
              <a:srgbClr val="3838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3059280" y="2421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5003640" y="2421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  <a:effectLst>
            <a:outerShdw dist="17819" dir="2700000" blurRad="0" rotWithShape="0">
              <a:srgbClr val="5b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1916280"/>
            <a:ext cx="136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临终护理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4" action="ppaction://hlinksldjump"/>
          </p:cNvPr>
          <p:cNvSpPr/>
          <p:nvPr/>
        </p:nvSpPr>
        <p:spPr>
          <a:xfrm>
            <a:off x="6948360" y="2421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066680"/>
            <a:ext cx="3598920" cy="60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、临终护理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59500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2276640"/>
            <a:ext cx="6840360" cy="3456000"/>
          </a:xfrm>
          <a:prstGeom prst="rect">
            <a:avLst/>
          </a:prstGeom>
          <a:gradFill rotWithShape="0">
            <a:gsLst>
              <a:gs pos="0">
                <a:srgbClr val="80c5ca"/>
              </a:gs>
              <a:gs pos="50000">
                <a:srgbClr val="33cccc"/>
              </a:gs>
              <a:gs pos="100000">
                <a:srgbClr val="80c5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临终护理是对那些已失去治愈希望的濒死期病人实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积极的整体护理。其目的是尽可能减轻临终病人的痛苦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恐惧与不安，维护其尊严，使其安详地告别人世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临终护理是临终关怀不可缺少的一项服务内容，临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护理的质量决定了临终关怀的质量，临终护理不仅对临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病人，而且对其家属也有着不可忽略的重要作用。临终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理以姑息治疗护理为主要内容。还包括对临终病人家属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心理支持与照护，并可促进家属和病人的情绪稳定，提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全面的、积极的综合护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临终病人的生理反应及护理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疼痛：烦躁不安，血压计心率改变，呼吸变快或减慢，瞳孔放大，不寻常的姿势，疼痛面容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呼吸功能减退</a:t>
            </a:r>
            <a:r>
              <a:rPr b="1" lang="en-US" sz="2900" spc="-1" strike="noStrike">
                <a:solidFill>
                  <a:srgbClr val="006666"/>
                </a:solidFill>
                <a:latin typeface="Verdana"/>
              </a:rPr>
              <a:t>:</a:t>
            </a: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潮式呼吸，间断呼吸，鼻翼呼吸，张口呼吸等，常出现痰鸣音及鼾声呼吸，最终呼吸停止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循环功能减退：皮肤苍白，湿冷，大量出汗，四肢发绀斑点，脉搏快而弱不规则甚触不到，血压降低或测不出，心尖搏动常为最后消失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84464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328464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472428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3794"/>
                </a:moveTo>
                <a:lnTo>
                  <a:pt x="20853" y="10800"/>
                </a:lnTo>
                <a:lnTo>
                  <a:pt x="684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6775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胃肠功能减弱或消失：恶心，呕吐，食欲不振，腹胀，便秘，脱水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肌肉张力丧失：吞咽困难，大小便失禁，肢体软弱无力，不能进行肢体自主活动，无法维持良好舒适的功能体位，脸部外观改变呈希氏面容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感知觉，意识改变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临近死亡的体征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177336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278136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458136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3794"/>
                </a:moveTo>
                <a:lnTo>
                  <a:pt x="20853" y="10800"/>
                </a:lnTo>
                <a:lnTo>
                  <a:pt x="684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减轻疼痛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66"/>
                </a:solidFill>
                <a:latin typeface="Verdana"/>
              </a:rPr>
              <a:t>观察疼痛的性质，部位，程度及持续时间。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协助病人选择减轻疼痛的最有效方法</a:t>
            </a:r>
            <a:r>
              <a:rPr b="1" lang="zh-CN" sz="3300" spc="-1" strike="noStrike">
                <a:solidFill>
                  <a:srgbClr val="006666"/>
                </a:solidFill>
                <a:latin typeface="Verdana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66"/>
                </a:solidFill>
                <a:latin typeface="Verdana"/>
              </a:rPr>
              <a:t>非药物疗法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66"/>
                </a:solidFill>
                <a:latin typeface="Verdana"/>
              </a:rPr>
              <a:t>同情，安慰，鼓励患者并与患者进行交谈，稳定病人情绪，并适当引导使其注意力转移。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0000" y="5924520"/>
            <a:ext cx="41400" cy="212760"/>
          </a:xfrm>
          <a:custGeom>
            <a:avLst/>
            <a:gdLst/>
            <a:ahLst/>
            <a:rect l="l" t="t" r="r" b="b"/>
            <a:pathLst>
              <a:path w="52" h="269">
                <a:moveTo>
                  <a:pt x="52" y="0"/>
                </a:moveTo>
                <a:lnTo>
                  <a:pt x="52" y="269"/>
                </a:lnTo>
                <a:lnTo>
                  <a:pt x="0" y="220"/>
                </a:lnTo>
                <a:lnTo>
                  <a:pt x="5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6094440"/>
            <a:ext cx="214200" cy="42840"/>
          </a:xfrm>
          <a:custGeom>
            <a:avLst/>
            <a:gdLst/>
            <a:ahLst/>
            <a:rect l="l" t="t" r="r" b="b"/>
            <a:pathLst>
              <a:path w="269" h="53">
                <a:moveTo>
                  <a:pt x="0" y="0"/>
                </a:moveTo>
                <a:lnTo>
                  <a:pt x="269" y="0"/>
                </a:lnTo>
                <a:lnTo>
                  <a:pt x="219" y="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41400" y="6137280"/>
            <a:ext cx="39600" cy="212760"/>
          </a:xfrm>
          <a:custGeom>
            <a:avLst/>
            <a:gdLst/>
            <a:ahLst/>
            <a:rect l="l" t="t" r="r" b="b"/>
            <a:pathLst>
              <a:path w="51" h="269">
                <a:moveTo>
                  <a:pt x="0" y="269"/>
                </a:moveTo>
                <a:lnTo>
                  <a:pt x="0" y="0"/>
                </a:lnTo>
                <a:lnTo>
                  <a:pt x="51" y="51"/>
                </a:lnTo>
                <a:lnTo>
                  <a:pt x="0" y="2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6021360"/>
            <a:ext cx="61920" cy="73080"/>
          </a:xfrm>
          <a:custGeom>
            <a:avLst/>
            <a:gdLst/>
            <a:ahLst/>
            <a:rect l="l" t="t" r="r" b="b"/>
            <a:pathLst>
              <a:path w="78" h="92">
                <a:moveTo>
                  <a:pt x="0" y="0"/>
                </a:moveTo>
                <a:lnTo>
                  <a:pt x="78" y="80"/>
                </a:lnTo>
                <a:lnTo>
                  <a:pt x="27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4040" y="6191280"/>
            <a:ext cx="74520" cy="60120"/>
          </a:xfrm>
          <a:custGeom>
            <a:avLst/>
            <a:gdLst/>
            <a:ahLst/>
            <a:rect l="l" t="t" r="r" b="b"/>
            <a:pathLst>
              <a:path w="93" h="76">
                <a:moveTo>
                  <a:pt x="0" y="76"/>
                </a:moveTo>
                <a:lnTo>
                  <a:pt x="80" y="0"/>
                </a:lnTo>
                <a:lnTo>
                  <a:pt x="93" y="51"/>
                </a:lnTo>
                <a:lnTo>
                  <a:pt x="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3600" y="6180120"/>
            <a:ext cx="61920" cy="73080"/>
          </a:xfrm>
          <a:custGeom>
            <a:avLst/>
            <a:gdLst/>
            <a:ahLst/>
            <a:rect l="l" t="t" r="r" b="b"/>
            <a:pathLst>
              <a:path w="78" h="93">
                <a:moveTo>
                  <a:pt x="78" y="93"/>
                </a:moveTo>
                <a:lnTo>
                  <a:pt x="0" y="13"/>
                </a:lnTo>
                <a:lnTo>
                  <a:pt x="52" y="0"/>
                </a:lnTo>
                <a:lnTo>
                  <a:pt x="78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84240" y="6022800"/>
            <a:ext cx="73080" cy="61920"/>
          </a:xfrm>
          <a:custGeom>
            <a:avLst/>
            <a:gdLst/>
            <a:ahLst/>
            <a:rect l="l" t="t" r="r" b="b"/>
            <a:pathLst>
              <a:path w="93" h="79">
                <a:moveTo>
                  <a:pt x="93" y="0"/>
                </a:moveTo>
                <a:lnTo>
                  <a:pt x="13" y="79"/>
                </a:lnTo>
                <a:lnTo>
                  <a:pt x="0" y="27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1371600"/>
            <a:ext cx="6781680" cy="3962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b2b2b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三阶梯疗法控制疼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前世界卫生组织（</a:t>
            </a: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建议用三阶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法控制疼痛：第一阶段：选用非麻醉性镇痛药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阿司匹林、对乙酰氨基酚等；第二阶段：选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弱麻醉药，如可待因、美沙酮等；第三阶段：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用强麻醉性镇痛药，如吗啡、哌替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39360" y="1620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知识拓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6021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改善呼吸功能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保持室内空气新鲜，定时通风换气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神智清楚者，采用半卧位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昏迷者，采用仰卧位或头偏向一侧或侧卧位。必要时使用吸引器吸出痰液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视呼吸困难程度给予氧气吸入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促进血液循环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观察体温，脉搏，呼吸，血压的变化。皮肤色泽和温度等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病人四肢冰冷不适时，可提高室温，加强保暖，必要时给予热水袋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1628640"/>
            <a:ext cx="6985080" cy="453708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临终关怀的定义，脑死亡的判断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临终病人的心理变化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熟悉濒死及死亡的定义，死亡过程的分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临终病人的生理反应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了解临终关怀的兴起和发展；临终关怀的组织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和理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临终病人家属的护理；死亡后的护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476280"/>
            <a:ext cx="2793960" cy="91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41010"/>
                </a:solidFill>
                <a:latin typeface="Times New Roman"/>
              </a:rPr>
              <a:t>学习任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增进食欲，加强营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给予流质或半流质饮食，便于病人吞咽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注意食物的色香味，少量多餐，以减轻恶心，增强食欲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必要时采用鼻饲法或完全胃肠外营养，保证病人营养供给。加强监测，观察病人电解质指标及营养状况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促进病人舒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维持良好舒适的体位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加强皮肤护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重视口腔护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减轻感知觉改变的影响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提供合适的环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及时用湿纱布试去眼部的分泌物，注意保护双眼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避免在病人周围窃窃私语，以免增加病人的焦虑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5280" y="333360"/>
            <a:ext cx="4824360" cy="623880"/>
          </a:xfrm>
          <a:prstGeom prst="rect">
            <a:avLst/>
          </a:prstGeom>
          <a:solidFill>
            <a:srgbClr val="006666"/>
          </a:soli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、临终病人的心理变化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268280"/>
            <a:ext cx="8351640" cy="5329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1600" spc="-1" strike="noStrike">
                <a:solidFill>
                  <a:srgbClr val="4a00b8"/>
                </a:solidFill>
                <a:latin typeface="Times New Roman"/>
              </a:rPr>
              <a:t>美</a:t>
            </a: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国医学博士伊丽莎白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库乐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罗斯（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Kuble-ross E</a:t>
            </a: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）将身患绝症的病人心理反应分为五个阶段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（一）否认期心理变化及护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病人得知自己病重将面临死亡，其心理反应通常是“不，这不会是我，那不是真的！”，以此极力否认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拒绝接受事实，他们怀着侥幸的心情四处求医，希望是误诊。否认是病人应对突然降临的不幸的一种正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心理防御机制。此期，护士与病人之间应坦诚沟通，耐心倾听，不必揭穿病人，也不要欺骗病人，注意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护人员对病人的言语一致性，经常陪伴在病人身旁，让病人感受到护理人员的关怀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（二）愤怒期心理变化及护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当对疾病事实无法否认时，病人常表现为生气或激怒，产生“为什么是我，这不公平”的心理，往往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愤怒的情绪向家属、朋友、医护人员等接近的人发泄，或对医院的制度、治疗等方面表示不满。护理人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要充分理解病人的痛苦，正确对待病人发怒、抱怨、不合作的行为，给予病人以关爱和宽容，允许病人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泄他们的情感。同时注意预防意外事件的发生，并取得家属的配合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（三）协议期心理变化及护理</a:t>
            </a: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病人愤怒的心理消失，接受临终的事实。为了延长生命，有些病人会做出许多承诺作为交换条件，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现“请让我好起来，我一定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……”</a:t>
            </a: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的心理。此期病人变得和善，对自己的病情抱有希望，表现合作，能配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治疗。护士应主动关心病人，鼓励其说出内心的感受，并给予指导，加强护理，尽量满足病人的要求，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Times New Roman"/>
              </a:rPr>
              <a:t>其减轻痛苦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412640"/>
            <a:ext cx="7313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3300"/>
                </a:solidFill>
                <a:latin typeface="Verdana"/>
              </a:rPr>
              <a:t>（</a:t>
            </a:r>
            <a:r>
              <a:rPr b="1" lang="zh-CN" sz="2100" spc="-1" strike="noStrike">
                <a:solidFill>
                  <a:srgbClr val="ff3300"/>
                </a:solidFill>
                <a:latin typeface="Verdana"/>
              </a:rPr>
              <a:t>四）忧郁期心理变化及护理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99"/>
                </a:solidFill>
                <a:latin typeface="Verdana"/>
              </a:rPr>
              <a:t>        </a:t>
            </a:r>
            <a:r>
              <a:rPr b="1" lang="zh-CN" sz="2100" spc="-1" strike="noStrike">
                <a:solidFill>
                  <a:srgbClr val="000099"/>
                </a:solidFill>
                <a:latin typeface="Verdana"/>
              </a:rPr>
              <a:t>当病人发现身体状况日益恶化，无法阻止死亡的来临时，会产生很强烈的失落感，出现悲伤、退缩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99"/>
                </a:solidFill>
                <a:latin typeface="Verdana"/>
              </a:rPr>
              <a:t>忧郁等反应，甚至有轻生念头。有的病人要求与亲朋好友见面，希望有喜欢的人陪伴照顾。护理人员应尽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99"/>
                </a:solidFill>
                <a:latin typeface="Verdana"/>
              </a:rPr>
              <a:t>可能满足病人的要求，给予同情和照顾，允许其用不同方式宣泄情感，鼓励家属陪伴，并加强安全保护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3300"/>
                </a:solidFill>
                <a:latin typeface="Verdana"/>
              </a:rPr>
              <a:t>（五）接受期心理变化及护理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99"/>
                </a:solidFill>
                <a:latin typeface="Verdana"/>
              </a:rPr>
              <a:t>       </a:t>
            </a:r>
            <a:r>
              <a:rPr b="1" lang="zh-CN" sz="2100" spc="-1" strike="noStrike">
                <a:solidFill>
                  <a:srgbClr val="000099"/>
                </a:solidFill>
                <a:latin typeface="Verdana"/>
              </a:rPr>
              <a:t>在一切的努力、挣扎之后，病人变得平静，接受即将面临死亡的事实，喜欢独处，睡眠时间增加，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99"/>
                </a:solidFill>
                <a:latin typeface="Verdana"/>
              </a:rPr>
              <a:t>感减退，平静等待死亡的到来。护理人员应帮助病人了却未完成的心愿，提供安静、舒适的环境，尊重其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99"/>
                </a:solidFill>
                <a:latin typeface="Verdana"/>
              </a:rPr>
              <a:t>选择，保持与病人的沟通，并给予适当的支持，使其安详地告别人世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692280"/>
            <a:ext cx="4895640" cy="623880"/>
          </a:xfrm>
          <a:prstGeom prst="rect">
            <a:avLst/>
          </a:prstGeom>
          <a:solidFill>
            <a:srgbClr val="006666"/>
          </a:soli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、临终病人家属的安抚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1676520"/>
            <a:ext cx="7848360" cy="42004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0076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临终病人的家属面临着多方面的心理压力，医护人员在做好临终病人护理的同时，也要做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临终病人家属的关怀照顾工作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1400" spc="-1" strike="noStrike">
                <a:solidFill>
                  <a:srgbClr val="ffff00"/>
                </a:solidFill>
                <a:latin typeface="Times New Roman"/>
              </a:rPr>
              <a:t>（一）满足家属照顾病人的需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满足家属照顾病人的需要，让家属陪伴在病人身旁，护理人员为其提供必要的信息和指导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1400" spc="-1" strike="noStrike">
                <a:solidFill>
                  <a:srgbClr val="ffff00"/>
                </a:solidFill>
                <a:latin typeface="Times New Roman"/>
              </a:rPr>
              <a:t>（二）鼓励家属表达情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护理人员要与家属积极沟通，建立良好的关系，取得家属的信任，鼓励家属表达内心的感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和遇到的困难，容忍和谅解家属的过激言行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1400" spc="-1" strike="noStrike">
                <a:solidFill>
                  <a:srgbClr val="ffff00"/>
                </a:solidFill>
                <a:latin typeface="Times New Roman"/>
              </a:rPr>
              <a:t>（三）指导家属对病人的生活照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鼓励家属参与护理计划的制定和对病人生活照料，耐心指导家属照料病人的有关护理技术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使家属在此过程中获得心理慰籍，让病人感到亲情温暖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1400" spc="-1" strike="noStrike">
                <a:solidFill>
                  <a:srgbClr val="ffff00"/>
                </a:solidFill>
                <a:latin typeface="Times New Roman"/>
              </a:rPr>
              <a:t>（四）协助维持家庭的完整性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协助家属在医院环境中，营造家庭生活氛围，如共同进餐等，维持家庭完整性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1400" spc="-1" strike="noStrike">
                <a:solidFill>
                  <a:srgbClr val="ffff00"/>
                </a:solidFill>
                <a:latin typeface="Times New Roman"/>
              </a:rPr>
              <a:t>（五）满足家属生理、心理和社会方面的需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护理人员要关心理解家属，帮助其解决实际困难，合理安排陪伴期间的生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684360" y="595008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18320" y="851040"/>
            <a:ext cx="61920" cy="72720"/>
          </a:xfrm>
          <a:custGeom>
            <a:avLst/>
            <a:gdLst/>
            <a:ahLst/>
            <a:rect l="l" t="t" r="r" b="b"/>
            <a:pathLst>
              <a:path w="78" h="93">
                <a:moveTo>
                  <a:pt x="78" y="93"/>
                </a:moveTo>
                <a:lnTo>
                  <a:pt x="0" y="13"/>
                </a:lnTo>
                <a:lnTo>
                  <a:pt x="52" y="0"/>
                </a:lnTo>
                <a:lnTo>
                  <a:pt x="78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01040" y="1014480"/>
            <a:ext cx="74520" cy="60120"/>
          </a:xfrm>
          <a:custGeom>
            <a:avLst/>
            <a:gdLst/>
            <a:ahLst/>
            <a:rect l="l" t="t" r="r" b="b"/>
            <a:pathLst>
              <a:path w="93" h="76">
                <a:moveTo>
                  <a:pt x="0" y="76"/>
                </a:moveTo>
                <a:lnTo>
                  <a:pt x="80" y="0"/>
                </a:lnTo>
                <a:lnTo>
                  <a:pt x="93" y="51"/>
                </a:lnTo>
                <a:lnTo>
                  <a:pt x="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0960" y="1003320"/>
            <a:ext cx="61920" cy="73080"/>
          </a:xfrm>
          <a:custGeom>
            <a:avLst/>
            <a:gdLst/>
            <a:ahLst/>
            <a:rect l="l" t="t" r="r" b="b"/>
            <a:pathLst>
              <a:path w="78" h="93">
                <a:moveTo>
                  <a:pt x="78" y="93"/>
                </a:moveTo>
                <a:lnTo>
                  <a:pt x="0" y="13"/>
                </a:lnTo>
                <a:lnTo>
                  <a:pt x="52" y="0"/>
                </a:lnTo>
                <a:lnTo>
                  <a:pt x="78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30400" y="5303880"/>
            <a:ext cx="41040" cy="212760"/>
          </a:xfrm>
          <a:custGeom>
            <a:avLst/>
            <a:gdLst/>
            <a:ahLst/>
            <a:rect l="l" t="t" r="r" b="b"/>
            <a:pathLst>
              <a:path w="52" h="269">
                <a:moveTo>
                  <a:pt x="52" y="0"/>
                </a:moveTo>
                <a:lnTo>
                  <a:pt x="52" y="269"/>
                </a:lnTo>
                <a:lnTo>
                  <a:pt x="0" y="220"/>
                </a:lnTo>
                <a:lnTo>
                  <a:pt x="5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71440" y="5475240"/>
            <a:ext cx="212760" cy="41400"/>
          </a:xfrm>
          <a:custGeom>
            <a:avLst/>
            <a:gdLst/>
            <a:ahLst/>
            <a:rect l="l" t="t" r="r" b="b"/>
            <a:pathLst>
              <a:path w="268" h="51">
                <a:moveTo>
                  <a:pt x="268" y="51"/>
                </a:moveTo>
                <a:lnTo>
                  <a:pt x="0" y="51"/>
                </a:lnTo>
                <a:lnTo>
                  <a:pt x="50" y="0"/>
                </a:lnTo>
                <a:lnTo>
                  <a:pt x="268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57320" y="5400720"/>
            <a:ext cx="61920" cy="73080"/>
          </a:xfrm>
          <a:custGeom>
            <a:avLst/>
            <a:gdLst/>
            <a:ahLst/>
            <a:rect l="l" t="t" r="r" b="b"/>
            <a:pathLst>
              <a:path w="78" h="92">
                <a:moveTo>
                  <a:pt x="0" y="0"/>
                </a:moveTo>
                <a:lnTo>
                  <a:pt x="78" y="80"/>
                </a:lnTo>
                <a:lnTo>
                  <a:pt x="27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54080" y="5570640"/>
            <a:ext cx="74520" cy="60120"/>
          </a:xfrm>
          <a:custGeom>
            <a:avLst/>
            <a:gdLst/>
            <a:ahLst/>
            <a:rect l="l" t="t" r="r" b="b"/>
            <a:pathLst>
              <a:path w="93" h="76">
                <a:moveTo>
                  <a:pt x="0" y="76"/>
                </a:moveTo>
                <a:lnTo>
                  <a:pt x="80" y="0"/>
                </a:lnTo>
                <a:lnTo>
                  <a:pt x="93" y="51"/>
                </a:lnTo>
                <a:lnTo>
                  <a:pt x="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24000" y="5559480"/>
            <a:ext cx="61920" cy="73080"/>
          </a:xfrm>
          <a:custGeom>
            <a:avLst/>
            <a:gdLst/>
            <a:ahLst/>
            <a:rect l="l" t="t" r="r" b="b"/>
            <a:pathLst>
              <a:path w="78" h="93">
                <a:moveTo>
                  <a:pt x="78" y="93"/>
                </a:moveTo>
                <a:lnTo>
                  <a:pt x="0" y="13"/>
                </a:lnTo>
                <a:lnTo>
                  <a:pt x="52" y="0"/>
                </a:lnTo>
                <a:lnTo>
                  <a:pt x="78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4280" y="5402160"/>
            <a:ext cx="73080" cy="61920"/>
          </a:xfrm>
          <a:custGeom>
            <a:avLst/>
            <a:gdLst/>
            <a:ahLst/>
            <a:rect l="l" t="t" r="r" b="b"/>
            <a:pathLst>
              <a:path w="93" h="79">
                <a:moveTo>
                  <a:pt x="93" y="0"/>
                </a:moveTo>
                <a:lnTo>
                  <a:pt x="13" y="79"/>
                </a:lnTo>
                <a:lnTo>
                  <a:pt x="0" y="27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1371600"/>
            <a:ext cx="6782040" cy="3886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安乐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安乐死一词来源于希腊语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,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意为无痛苦、幸福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死亡。安乐死有两层基本含义，其一，是一种无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苦的死亡的状态；其二，是一种死亡方法，指为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束不治之症病人的痛苦所采取的无痛致死术。其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式可分为主动与被动两种。主动安乐死指由医务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员或其他人采取措施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,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以结束病人的痛苦或加速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亡过程；被动安乐死是指停止对病人采用的一切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疗措施，任其自然死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16002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知识拓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900000" y="57340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10800"/>
                </a:moveTo>
                <a:lnTo>
                  <a:pt x="19951" y="3794"/>
                </a:lnTo>
                <a:lnTo>
                  <a:pt x="1995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三节  死亡后的护理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66"/>
                </a:solidFill>
                <a:latin typeface="Verdana"/>
              </a:rPr>
              <a:t>尸体护理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66"/>
                </a:solidFill>
                <a:latin typeface="Verdana"/>
              </a:rPr>
              <a:t>丧亲者的护理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078680" y="1098720"/>
            <a:ext cx="41400" cy="212400"/>
          </a:xfrm>
          <a:custGeom>
            <a:avLst/>
            <a:gdLst/>
            <a:ahLst/>
            <a:rect l="l" t="t" r="r" b="b"/>
            <a:pathLst>
              <a:path w="52" h="269">
                <a:moveTo>
                  <a:pt x="52" y="0"/>
                </a:moveTo>
                <a:lnTo>
                  <a:pt x="52" y="269"/>
                </a:lnTo>
                <a:lnTo>
                  <a:pt x="0" y="220"/>
                </a:lnTo>
                <a:lnTo>
                  <a:pt x="5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5520" y="1311120"/>
            <a:ext cx="214560" cy="42840"/>
          </a:xfrm>
          <a:custGeom>
            <a:avLst/>
            <a:gdLst/>
            <a:ahLst/>
            <a:rect l="l" t="t" r="r" b="b"/>
            <a:pathLst>
              <a:path w="269" h="53">
                <a:moveTo>
                  <a:pt x="0" y="0"/>
                </a:moveTo>
                <a:lnTo>
                  <a:pt x="269" y="0"/>
                </a:lnTo>
                <a:lnTo>
                  <a:pt x="219" y="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20080" y="1311120"/>
            <a:ext cx="39600" cy="212760"/>
          </a:xfrm>
          <a:custGeom>
            <a:avLst/>
            <a:gdLst/>
            <a:ahLst/>
            <a:rect l="l" t="t" r="r" b="b"/>
            <a:pathLst>
              <a:path w="51" h="269">
                <a:moveTo>
                  <a:pt x="0" y="269"/>
                </a:moveTo>
                <a:lnTo>
                  <a:pt x="0" y="0"/>
                </a:lnTo>
                <a:lnTo>
                  <a:pt x="51" y="51"/>
                </a:lnTo>
                <a:lnTo>
                  <a:pt x="0" y="2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20080" y="1270080"/>
            <a:ext cx="212760" cy="41040"/>
          </a:xfrm>
          <a:custGeom>
            <a:avLst/>
            <a:gdLst/>
            <a:ahLst/>
            <a:rect l="l" t="t" r="r" b="b"/>
            <a:pathLst>
              <a:path w="268" h="51">
                <a:moveTo>
                  <a:pt x="268" y="51"/>
                </a:moveTo>
                <a:lnTo>
                  <a:pt x="0" y="51"/>
                </a:lnTo>
                <a:lnTo>
                  <a:pt x="50" y="0"/>
                </a:lnTo>
                <a:lnTo>
                  <a:pt x="268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05600" y="1195560"/>
            <a:ext cx="61920" cy="72720"/>
          </a:xfrm>
          <a:custGeom>
            <a:avLst/>
            <a:gdLst/>
            <a:ahLst/>
            <a:rect l="l" t="t" r="r" b="b"/>
            <a:pathLst>
              <a:path w="78" h="92">
                <a:moveTo>
                  <a:pt x="0" y="0"/>
                </a:moveTo>
                <a:lnTo>
                  <a:pt x="78" y="80"/>
                </a:lnTo>
                <a:lnTo>
                  <a:pt x="27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02360" y="1365120"/>
            <a:ext cx="74880" cy="60480"/>
          </a:xfrm>
          <a:custGeom>
            <a:avLst/>
            <a:gdLst/>
            <a:ahLst/>
            <a:rect l="l" t="t" r="r" b="b"/>
            <a:pathLst>
              <a:path w="93" h="76">
                <a:moveTo>
                  <a:pt x="0" y="76"/>
                </a:moveTo>
                <a:lnTo>
                  <a:pt x="80" y="0"/>
                </a:lnTo>
                <a:lnTo>
                  <a:pt x="93" y="51"/>
                </a:lnTo>
                <a:lnTo>
                  <a:pt x="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72280" y="1353960"/>
            <a:ext cx="61920" cy="73080"/>
          </a:xfrm>
          <a:custGeom>
            <a:avLst/>
            <a:gdLst/>
            <a:ahLst/>
            <a:rect l="l" t="t" r="r" b="b"/>
            <a:pathLst>
              <a:path w="78" h="93">
                <a:moveTo>
                  <a:pt x="78" y="93"/>
                </a:moveTo>
                <a:lnTo>
                  <a:pt x="0" y="13"/>
                </a:lnTo>
                <a:lnTo>
                  <a:pt x="52" y="0"/>
                </a:lnTo>
                <a:lnTo>
                  <a:pt x="78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1197000"/>
            <a:ext cx="73080" cy="61920"/>
          </a:xfrm>
          <a:custGeom>
            <a:avLst/>
            <a:gdLst/>
            <a:ahLst/>
            <a:rect l="l" t="t" r="r" b="b"/>
            <a:pathLst>
              <a:path w="93" h="79">
                <a:moveTo>
                  <a:pt x="93" y="0"/>
                </a:moveTo>
                <a:lnTo>
                  <a:pt x="13" y="79"/>
                </a:lnTo>
                <a:lnTo>
                  <a:pt x="0" y="27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58053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620640"/>
            <a:ext cx="201600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尸体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484280"/>
            <a:ext cx="7456320" cy="121284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尸体护理是对临终病人实施整体护理的最后步骤，是临终关怀的重要内容之一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做好尸体护理不仅体现对死者的尊重和对死者家属的安慰，也体现了人道主义精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和崇高的职业道德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4005360"/>
            <a:ext cx="1800000" cy="100800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目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4005360"/>
            <a:ext cx="1800360" cy="100800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准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59280" y="4005360"/>
            <a:ext cx="1800360" cy="100800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操作步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48360" y="4005360"/>
            <a:ext cx="1800360" cy="100800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注意事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2997360"/>
            <a:ext cx="287280" cy="792000"/>
          </a:xfrm>
          <a:prstGeom prst="downArrow">
            <a:avLst>
              <a:gd name="adj1" fmla="val 50000"/>
              <a:gd name="adj2" fmla="val 6892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2997360"/>
            <a:ext cx="287280" cy="792000"/>
          </a:xfrm>
          <a:prstGeom prst="downArrow">
            <a:avLst>
              <a:gd name="adj1" fmla="val 50000"/>
              <a:gd name="adj2" fmla="val 6892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51640" y="2997360"/>
            <a:ext cx="287280" cy="792000"/>
          </a:xfrm>
          <a:prstGeom prst="downArrow">
            <a:avLst>
              <a:gd name="adj1" fmla="val 50000"/>
              <a:gd name="adj2" fmla="val 6892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67640" y="2997360"/>
            <a:ext cx="287280" cy="792000"/>
          </a:xfrm>
          <a:prstGeom prst="downArrow">
            <a:avLst>
              <a:gd name="adj1" fmla="val 50000"/>
              <a:gd name="adj2" fmla="val 6892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358920" cy="144720"/>
          </a:xfrm>
          <a:custGeom>
            <a:avLst/>
            <a:gdLst>
              <a:gd name="textAreaLeft" fmla="*/ 9360 w 358920"/>
              <a:gd name="textAreaRight" fmla="*/ 349560 w 35892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53491" h="21600">
                <a:moveTo>
                  <a:pt x="0" y="0"/>
                </a:moveTo>
                <a:lnTo>
                  <a:pt x="53491" y="0"/>
                </a:lnTo>
                <a:lnTo>
                  <a:pt x="53491" y="21600"/>
                </a:lnTo>
                <a:lnTo>
                  <a:pt x="0" y="21600"/>
                </a:lnTo>
                <a:close/>
              </a:path>
              <a:path fill="lightenLess" w="53491" h="21600">
                <a:moveTo>
                  <a:pt x="0" y="0"/>
                </a:moveTo>
                <a:lnTo>
                  <a:pt x="53491" y="0"/>
                </a:lnTo>
                <a:lnTo>
                  <a:pt x="52091" y="1400"/>
                </a:lnTo>
                <a:lnTo>
                  <a:pt x="1400" y="1400"/>
                </a:lnTo>
                <a:close/>
              </a:path>
              <a:path fill="darken" w="53491" h="21600">
                <a:moveTo>
                  <a:pt x="53491" y="0"/>
                </a:moveTo>
                <a:lnTo>
                  <a:pt x="53491" y="21600"/>
                </a:lnTo>
                <a:lnTo>
                  <a:pt x="52091" y="20200"/>
                </a:lnTo>
                <a:lnTo>
                  <a:pt x="52091" y="1400"/>
                </a:lnTo>
                <a:close/>
              </a:path>
              <a:path fill="darkenLess" w="53491" h="21600">
                <a:moveTo>
                  <a:pt x="53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091" y="20200"/>
                </a:lnTo>
                <a:close/>
              </a:path>
              <a:path fill="lighten" w="53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491" h="21600">
                <a:moveTo>
                  <a:pt x="19739" y="3794"/>
                </a:moveTo>
                <a:lnTo>
                  <a:pt x="33752" y="10800"/>
                </a:lnTo>
                <a:lnTo>
                  <a:pt x="1973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67640" y="4724280"/>
            <a:ext cx="358920" cy="144720"/>
          </a:xfrm>
          <a:custGeom>
            <a:avLst/>
            <a:gdLst>
              <a:gd name="textAreaLeft" fmla="*/ 9360 w 358920"/>
              <a:gd name="textAreaRight" fmla="*/ 349560 w 35892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53491" h="21600">
                <a:moveTo>
                  <a:pt x="0" y="0"/>
                </a:moveTo>
                <a:lnTo>
                  <a:pt x="53491" y="0"/>
                </a:lnTo>
                <a:lnTo>
                  <a:pt x="53491" y="21600"/>
                </a:lnTo>
                <a:lnTo>
                  <a:pt x="0" y="21600"/>
                </a:lnTo>
                <a:close/>
              </a:path>
              <a:path fill="lightenLess" w="53491" h="21600">
                <a:moveTo>
                  <a:pt x="0" y="0"/>
                </a:moveTo>
                <a:lnTo>
                  <a:pt x="53491" y="0"/>
                </a:lnTo>
                <a:lnTo>
                  <a:pt x="52091" y="1400"/>
                </a:lnTo>
                <a:lnTo>
                  <a:pt x="1400" y="1400"/>
                </a:lnTo>
                <a:close/>
              </a:path>
              <a:path fill="darken" w="53491" h="21600">
                <a:moveTo>
                  <a:pt x="53491" y="0"/>
                </a:moveTo>
                <a:lnTo>
                  <a:pt x="53491" y="21600"/>
                </a:lnTo>
                <a:lnTo>
                  <a:pt x="52091" y="20200"/>
                </a:lnTo>
                <a:lnTo>
                  <a:pt x="52091" y="1400"/>
                </a:lnTo>
                <a:close/>
              </a:path>
              <a:path fill="darkenLess" w="53491" h="21600">
                <a:moveTo>
                  <a:pt x="53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091" y="20200"/>
                </a:lnTo>
                <a:close/>
              </a:path>
              <a:path fill="lighten" w="53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491" h="21600">
                <a:moveTo>
                  <a:pt x="19739" y="3794"/>
                </a:moveTo>
                <a:lnTo>
                  <a:pt x="33752" y="10800"/>
                </a:lnTo>
                <a:lnTo>
                  <a:pt x="1973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5508720" y="4724280"/>
            <a:ext cx="358560" cy="144720"/>
          </a:xfrm>
          <a:custGeom>
            <a:avLst/>
            <a:gdLst>
              <a:gd name="textAreaLeft" fmla="*/ 9360 w 358560"/>
              <a:gd name="textAreaRight" fmla="*/ 349200 w 35856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53437" h="21600">
                <a:moveTo>
                  <a:pt x="0" y="0"/>
                </a:moveTo>
                <a:lnTo>
                  <a:pt x="53437" y="0"/>
                </a:lnTo>
                <a:lnTo>
                  <a:pt x="53437" y="21600"/>
                </a:lnTo>
                <a:lnTo>
                  <a:pt x="0" y="21600"/>
                </a:lnTo>
                <a:close/>
              </a:path>
              <a:path fill="lightenLess" w="53437" h="21600">
                <a:moveTo>
                  <a:pt x="0" y="0"/>
                </a:moveTo>
                <a:lnTo>
                  <a:pt x="53437" y="0"/>
                </a:lnTo>
                <a:lnTo>
                  <a:pt x="52037" y="1400"/>
                </a:lnTo>
                <a:lnTo>
                  <a:pt x="1400" y="1400"/>
                </a:lnTo>
                <a:close/>
              </a:path>
              <a:path fill="darken" w="53437" h="21600">
                <a:moveTo>
                  <a:pt x="53437" y="0"/>
                </a:moveTo>
                <a:lnTo>
                  <a:pt x="53437" y="21600"/>
                </a:lnTo>
                <a:lnTo>
                  <a:pt x="52037" y="20200"/>
                </a:lnTo>
                <a:lnTo>
                  <a:pt x="52037" y="1400"/>
                </a:lnTo>
                <a:close/>
              </a:path>
              <a:path fill="darkenLess" w="53437" h="21600">
                <a:moveTo>
                  <a:pt x="5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037" y="20200"/>
                </a:lnTo>
                <a:close/>
              </a:path>
              <a:path fill="lighten" w="5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437" h="21600">
                <a:moveTo>
                  <a:pt x="19712" y="3794"/>
                </a:moveTo>
                <a:lnTo>
                  <a:pt x="33725" y="10800"/>
                </a:lnTo>
                <a:lnTo>
                  <a:pt x="1971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3581280" y="4724280"/>
            <a:ext cx="358920" cy="144720"/>
          </a:xfrm>
          <a:custGeom>
            <a:avLst/>
            <a:gdLst>
              <a:gd name="textAreaLeft" fmla="*/ 9360 w 358920"/>
              <a:gd name="textAreaRight" fmla="*/ 349560 w 35892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53491" h="21600">
                <a:moveTo>
                  <a:pt x="0" y="0"/>
                </a:moveTo>
                <a:lnTo>
                  <a:pt x="53491" y="0"/>
                </a:lnTo>
                <a:lnTo>
                  <a:pt x="53491" y="21600"/>
                </a:lnTo>
                <a:lnTo>
                  <a:pt x="0" y="21600"/>
                </a:lnTo>
                <a:close/>
              </a:path>
              <a:path fill="lightenLess" w="53491" h="21600">
                <a:moveTo>
                  <a:pt x="0" y="0"/>
                </a:moveTo>
                <a:lnTo>
                  <a:pt x="53491" y="0"/>
                </a:lnTo>
                <a:lnTo>
                  <a:pt x="52091" y="1400"/>
                </a:lnTo>
                <a:lnTo>
                  <a:pt x="1400" y="1400"/>
                </a:lnTo>
                <a:close/>
              </a:path>
              <a:path fill="darken" w="53491" h="21600">
                <a:moveTo>
                  <a:pt x="53491" y="0"/>
                </a:moveTo>
                <a:lnTo>
                  <a:pt x="53491" y="21600"/>
                </a:lnTo>
                <a:lnTo>
                  <a:pt x="52091" y="20200"/>
                </a:lnTo>
                <a:lnTo>
                  <a:pt x="52091" y="1400"/>
                </a:lnTo>
                <a:close/>
              </a:path>
              <a:path fill="darkenLess" w="53491" h="21600">
                <a:moveTo>
                  <a:pt x="53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091" y="20200"/>
                </a:lnTo>
                <a:close/>
              </a:path>
              <a:path fill="lighten" w="53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491" h="21600">
                <a:moveTo>
                  <a:pt x="19739" y="3794"/>
                </a:moveTo>
                <a:lnTo>
                  <a:pt x="33752" y="10800"/>
                </a:lnTo>
                <a:lnTo>
                  <a:pt x="1973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1640" y="692280"/>
            <a:ext cx="1800000" cy="79200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目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2133720"/>
            <a:ext cx="6172200" cy="266688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1e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尸体整洁，姿势良好，易于辨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尊重死者，给家属以安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5877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1e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2205000"/>
            <a:ext cx="7238880" cy="396252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743200"/>
            <a:ext cx="3998880" cy="380880"/>
          </a:xfrm>
          <a:prstGeom prst="roundRect">
            <a:avLst>
              <a:gd name="adj" fmla="val 7574"/>
            </a:avLst>
          </a:prstGeom>
          <a:solidFill>
            <a:srgbClr val="f2e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概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3860640"/>
            <a:ext cx="39625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e9e9"/>
              </a:gs>
              <a:gs pos="100000">
                <a:srgbClr val="99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临终病人和家属的护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4941720"/>
            <a:ext cx="37447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2895480"/>
            <a:ext cx="2098800" cy="381240"/>
          </a:xfrm>
          <a:prstGeom prst="roundRect">
            <a:avLst>
              <a:gd name="adj" fmla="val 7574"/>
            </a:avLst>
          </a:prstGeom>
          <a:solidFill>
            <a:srgbClr val="ff99cc"/>
          </a:solidFill>
          <a:ln cap="rnd" w="2844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第一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4005360"/>
            <a:ext cx="22320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cccc"/>
              </a:gs>
              <a:gs pos="50000">
                <a:srgbClr val="b4d9d9"/>
              </a:gs>
              <a:gs pos="100000">
                <a:srgbClr val="99cccc"/>
              </a:gs>
            </a:gsLst>
            <a:lin ang="13500000"/>
          </a:gradFill>
          <a:ln cap="rnd" w="2844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第二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5084640"/>
            <a:ext cx="223200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33cccc"/>
              </a:gs>
              <a:gs pos="50000">
                <a:srgbClr val="6ad9d9"/>
              </a:gs>
              <a:gs pos="100000">
                <a:srgbClr val="33cccc"/>
              </a:gs>
            </a:gsLst>
            <a:lin ang="13500000"/>
          </a:gradFill>
          <a:ln cap="rnd" w="2844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第三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1197000"/>
            <a:ext cx="6524640" cy="1012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在人生旅途的最后阶段帮助临终病人坦然、宁静地面对死亡，并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可能减轻病人临终前的生理和心理反应，使之有尊严、安详地度过人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旅程的最后阶段，是护理人员应尽的职责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49360"/>
            <a:ext cx="31687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第二十章  临终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48960" y="484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死亡后的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451640" y="2852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7451640" y="3933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7451640" y="5013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00000" y="765000"/>
            <a:ext cx="1800360" cy="86364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准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2205000"/>
            <a:ext cx="6019920" cy="29718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1e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护士准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衣帽整洁、洗手、戴口罩、手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用物准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治疗盘内备：血管钳、剪刀、衣裤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尸单、填好的尸体识别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、别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枚、不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脂棉适量、梳子、绷带、大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另备：平车、脸盆、毛巾等；有伤口者准备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料，必要时备隔离衣和手套、屏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环境准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安静、肃穆，必要时屏风遮挡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58770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1e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35640" y="357336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66680" y="2200320"/>
            <a:ext cx="7162920" cy="2952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住院号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龄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性别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病室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床号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籍贯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死亡诊断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住址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死亡时间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护士签名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                       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医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3184560"/>
            <a:ext cx="1904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3487680"/>
            <a:ext cx="6324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4280" y="441972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288288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2049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13200" y="1671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尸体识别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7596360" y="5950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43280" y="981000"/>
            <a:ext cx="1600200" cy="62712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操作说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333360"/>
            <a:ext cx="1598400" cy="3962520"/>
          </a:xfrm>
          <a:prstGeom prst="rect">
            <a:avLst/>
          </a:prstGeom>
          <a:gradFill rotWithShape="0">
            <a:gsLst>
              <a:gs pos="0">
                <a:srgbClr val="98d0d4"/>
              </a:gs>
              <a:gs pos="50000">
                <a:srgbClr val="ccffff"/>
              </a:gs>
              <a:gs pos="100000">
                <a:srgbClr val="98d0d4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操作准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安置体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整理遗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清洁全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填塞孔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包裹尸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尸体运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终末消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整理病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处理遗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95640" y="1844640"/>
            <a:ext cx="6769080" cy="460872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1e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用物携至床旁，屏风遮挡，尊重死者。劝慰家属暂时离开病室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撤去一切治疗用物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尸体仰卧，双臂放于身体两侧，放平支架，头下垫枕，防止头部淤血青紫。撤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被褥，留一大单或被套（撤去棉胎）遮盖尸体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洗脸、闭合眼睑及嘴，可按摩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热湿敷眼周及下颌关节，如有义齿代为装上，必要时用多头绷带托住下颌，维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良好遗容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脱去衣裤，依次擦洗上肢、胸、腹、背、臀及下肢，并用松节油清除胶布痕迹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有伤口者更换敷料，有引流管拔除后缝合或用蝶形胶布封闭并包扎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用弯血管钳将不脱脂棉花塞入口、鼻、耳、阴道、肛门等孔道，防止体液外流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棉花勿外露，保持尸体整洁，无渗液。穿上衣裤、梳理头发，将第一张尸体识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卡系于腕部，撤去大单或被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将尸单斜放在平车上，移尸体于尸单上，先将尸单两端遮盖尸体的头和脚，再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尸单左右两边整齐包好，再用绷带将胸、腰、踝部固定，将第二张尸体识别卡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在尸体胸部的尸单上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将尸体盖上大单送至太平间，安置于停尸屉内，将第三张尸体识别卡挂在停尸屉外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按终末消毒原则处理床单位、用物及病室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完成记录，将死亡时间填写在当日体温单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40℃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～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42℃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之间相应时间栏内，注销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种卡片，按出院手续办理结帐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清点遗物交给家属，家属不在需两人核对登记，交护士长保存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6093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1e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87280" y="981000"/>
            <a:ext cx="1852920" cy="71460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事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2276640"/>
            <a:ext cx="4876920" cy="22860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1e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尸体护理应在医生开出死亡证明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家属同意后立即进行，以防尸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做尸体护理时，态度要严肃认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尊重死者，维护尸体隐私权，不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暴露尸体，并安置于自然体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传染病人尸体按隔离原则进行护理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6093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1e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55640" y="5877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907920"/>
            <a:ext cx="3733560" cy="609840"/>
          </a:xfrm>
          <a:prstGeom prst="rect">
            <a:avLst/>
          </a:prstGeom>
          <a:gradFill rotWithShape="0">
            <a:gsLst>
              <a:gs pos="0">
                <a:srgbClr val="5e7546"/>
              </a:gs>
              <a:gs pos="50000">
                <a:srgbClr val="ccff99"/>
              </a:gs>
              <a:gs pos="100000">
                <a:srgbClr val="5e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二、丧亲者的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1773360"/>
            <a:ext cx="8713800" cy="3816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33cc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1e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丧亲者是指死者的直系亲属。对于丧亲者，最亲近的人永远离开，是一种非常痛苦的经历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根据安格乐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gel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）理论，丧亲者的心理反应可分为六个阶段即：冲击与怀疑期；逐渐承认期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恢复常态期；克服失落感期；理想化期；恢复期。影响丧亲者心理调试的因素是多方面的，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丧亲者对死者的依赖程度、死者病程的长短、年龄大小、宗教信仰、失去亲人后的生活改变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亲朋好友的支持等。护理人员应充分理解丧亲者的感受，给予必要的支持与安抚。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真做好尸体护理  体现对死者的尊重，对生者的抚慰。尸体护理要充分体现人道主义精神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尊重死者，这是对丧亲者的极大安慰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疏导与精神支持  鼓励家属宣泄情感，鼓励丧亲者之间互相安慰，认真倾听其诉说，及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心疏导，使其得到精神上的支持与安抚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量满足丧亲者的需要  提供生活指导、建议，对无法实现的要求，要耐心劝慰。争取社会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面的支持，帮助解决实际问题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励多参加社会活动  建立新的社会关系和培养新的兴趣爱好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丧亲者进行随访  临终关怀机构可通过信件、电话、访视对死者家属进行追踪随访，给予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的鼓励和支持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26920" y="1413000"/>
            <a:ext cx="7993080" cy="4500360"/>
          </a:xfrm>
          <a:prstGeom prst="flowChartPunchedTape">
            <a:avLst/>
          </a:prstGeom>
          <a:noFill/>
          <a:ln w="0">
            <a:noFill/>
          </a:ln>
          <a:effectLst>
            <a:outerShdw dist="17819" dir="2700000" blurRad="0" rotWithShape="0">
              <a:srgbClr val="5a7c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临终关怀的基本原则有哪些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简述临终病人的心理变化分期、各期特点及护理措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简述死亡过程分期及各期特点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4. 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尸体护理应注意哪些问题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5. 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李某，男，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76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岁。高血压病史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年，晨起突然摔倒，来院就诊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门诊以高血压、脑出血收入院。查：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Bp190/150 mmHg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P64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次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分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T38.6℃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R12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次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分，右侧肢体偏瘫，瞳孔左侧大于右侧，对光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射迟钝，深度昏迷，二便失禁。讨论对该病人及家属应采取哪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护理措施。</a:t>
            </a:r>
            <a:r>
              <a:rPr b="0" lang="zh-CN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19280" y="765000"/>
            <a:ext cx="2205000" cy="795600"/>
          </a:xfrm>
          <a:prstGeom prst="rect">
            <a:avLst/>
          </a:prstGeom>
          <a:gradFill rotWithShape="0">
            <a:gsLst>
              <a:gs pos="0">
                <a:srgbClr val="99cccc"/>
              </a:gs>
              <a:gs pos="100000">
                <a:srgbClr val="98d0d4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5b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复习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979640" y="321300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6666"/>
                    </a:gs>
                    <a:gs pos="100000">
                      <a:srgbClr val="006666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24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6666"/>
                  </a:gs>
                  <a:gs pos="100000">
                    <a:srgbClr val="006666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4221000"/>
            <a:ext cx="5410440" cy="30492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002f2f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第一节 概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Verdana"/>
              </a:rPr>
              <a:t>临终关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Verdana"/>
              </a:rPr>
              <a:t>濒死及死亡的定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Verdana"/>
              </a:rPr>
              <a:t>死亡过程的分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1341360"/>
            <a:ext cx="7632720" cy="525636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临终关怀</a:t>
            </a:r>
            <a:r>
              <a:rPr b="1" lang="zh-CN" sz="1800" spc="-1" strike="noStrike">
                <a:solidFill>
                  <a:srgbClr val="ffff66"/>
                </a:solidFill>
                <a:latin typeface="Times New Roman"/>
              </a:rPr>
              <a:t>是有组织的向临终病人及家属提供一种全面的照护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66"/>
                </a:solidFill>
                <a:latin typeface="Times New Roman"/>
              </a:rPr>
              <a:t>包括生理，心里社会等方面，主要是为临终病人缓解疼痛，是生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66"/>
                </a:solidFill>
                <a:latin typeface="Times New Roman"/>
              </a:rPr>
              <a:t>得到尊重，症状得到控制，提高生存质量，家属的身心健康得到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66"/>
                </a:solidFill>
                <a:latin typeface="Times New Roman"/>
              </a:rPr>
              <a:t>护和增强，使病人在临终时能够无痛苦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1800" spc="-1" strike="noStrike">
                <a:solidFill>
                  <a:srgbClr val="ffff66"/>
                </a:solidFill>
                <a:latin typeface="Times New Roman"/>
              </a:rPr>
              <a:t>安宁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1800" spc="-1" strike="noStrike">
                <a:solidFill>
                  <a:srgbClr val="ffff66"/>
                </a:solidFill>
                <a:latin typeface="Times New Roman"/>
              </a:rPr>
              <a:t>舒适的走完人生的最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66"/>
                </a:solidFill>
                <a:latin typeface="Times New Roman"/>
              </a:rPr>
              <a:t>旅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临终关怀可由一支跨学科的专业队伍（医生、护士、心理咨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师、社会工作者、法律顾问等）提供。目前我国临终关怀组织主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有三种：一是专门的临终关怀医院；二是在医疗机构内设临终关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病房或病区（这是目前最主要的形式）；三是家庭病房，提供家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镇痛治疗、心理辅导和护理指导。随着医学和护理模式的改变，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界人口老龄化的趋势的加快，临终关怀已被社会广泛认可和重视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享受临终关怀是人的一项基本权利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476280"/>
            <a:ext cx="3311280" cy="60948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临终关怀的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333360"/>
            <a:ext cx="914400" cy="91440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临终关怀的发展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Verdana"/>
              </a:rPr>
              <a:t>现代的临终关怀创始于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世纪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年代，创始人是桑德斯（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．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aunders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）。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976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年桑德斯博士在美国创办“圣克里斯多福临终关怀院”，被誉为“点燃了世界临终关怀运动的灯塔”。随后的二十年里，英国的临终关怀机构已发展到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73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所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988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月，我国天津医学院（现天津医科大学）在美籍华人黄天中博士的资助下，成立</a:t>
            </a:r>
            <a:r>
              <a:rPr b="1" lang="zh-CN" sz="2800" spc="-1" strike="noStrike">
                <a:solidFill>
                  <a:srgbClr val="006666"/>
                </a:solidFill>
                <a:latin typeface="Verdana"/>
              </a:rPr>
              <a:t>了中国第一个临终关怀研究中心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临终关怀的组织形式和理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66"/>
                </a:solidFill>
                <a:latin typeface="Verdana"/>
              </a:rPr>
              <a:t>临终关怀的组织形式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临终关怀专门机构</a:t>
            </a: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综合性医院内设置临终关怀病房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居家照护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66"/>
                </a:solidFill>
                <a:latin typeface="Verdana"/>
              </a:rPr>
              <a:t>临终关怀的理念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以治愈为主的治疗转变为以关怀为主的照护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以延长病人的生存时间转变为提高病人的生命质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尊重临终病人的尊严和权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注重临终病人家属的心理支持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0"/>
            <a:ext cx="7313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濒死及死亡的定义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806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66"/>
                </a:solidFill>
                <a:latin typeface="Verdana"/>
                <a:ea typeface="华文行楷"/>
              </a:rPr>
              <a:t>濒死</a:t>
            </a:r>
            <a:r>
              <a:rPr b="1" lang="zh-CN" sz="3300" spc="-1" strike="noStrike">
                <a:solidFill>
                  <a:srgbClr val="006666"/>
                </a:solidFill>
                <a:latin typeface="Verdana"/>
              </a:rPr>
              <a:t>（</a:t>
            </a:r>
            <a:r>
              <a:rPr b="1" lang="en-US" sz="3300" spc="-1" strike="noStrike">
                <a:solidFill>
                  <a:srgbClr val="006666"/>
                </a:solidFill>
                <a:latin typeface="Arial"/>
              </a:rPr>
              <a:t>dying</a:t>
            </a:r>
            <a:r>
              <a:rPr b="1" lang="zh-CN" sz="3300" spc="-1" strike="noStrike">
                <a:solidFill>
                  <a:srgbClr val="006666"/>
                </a:solidFill>
                <a:latin typeface="Verdana"/>
              </a:rPr>
              <a:t>）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－</a:t>
            </a:r>
            <a:r>
              <a:rPr b="1" lang="zh-CN" sz="2500" spc="-1" strike="noStrike">
                <a:solidFill>
                  <a:srgbClr val="006666"/>
                </a:solidFill>
                <a:latin typeface="Verdana"/>
              </a:rPr>
              <a:t>即临终，指患者在已接受治疗性或姑息性治疗后，虽然意识清醒，但病情加速变化，各种迹象显示生命即将终结。</a:t>
            </a: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66"/>
                </a:solidFill>
                <a:latin typeface="Verdana"/>
                <a:ea typeface="华文行楷"/>
              </a:rPr>
              <a:t>死亡</a:t>
            </a:r>
            <a:r>
              <a:rPr b="1" lang="zh-CN" sz="3300" spc="-1" strike="noStrike">
                <a:solidFill>
                  <a:srgbClr val="006666"/>
                </a:solidFill>
                <a:latin typeface="Verdana"/>
              </a:rPr>
              <a:t>（</a:t>
            </a:r>
            <a:r>
              <a:rPr b="1" lang="en-US" sz="3300" spc="-1" strike="noStrike">
                <a:solidFill>
                  <a:srgbClr val="006666"/>
                </a:solidFill>
                <a:latin typeface="Arial"/>
              </a:rPr>
              <a:t>death</a:t>
            </a:r>
            <a:r>
              <a:rPr b="1" lang="zh-CN" sz="3300" spc="-1" strike="noStrike">
                <a:solidFill>
                  <a:srgbClr val="006666"/>
                </a:solidFill>
                <a:latin typeface="Verdana"/>
              </a:rPr>
              <a:t>）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66"/>
                </a:solidFill>
                <a:latin typeface="Verdana"/>
              </a:rPr>
              <a:t>－</a:t>
            </a:r>
            <a:r>
              <a:rPr b="1" lang="zh-CN" sz="2500" spc="-1" strike="noStrike">
                <a:solidFill>
                  <a:srgbClr val="006666"/>
                </a:solidFill>
                <a:latin typeface="Verdana"/>
              </a:rPr>
              <a:t>传统的死亡概念是指心肺功能的停止。美国布莱克（</a:t>
            </a:r>
            <a:r>
              <a:rPr b="1" lang="en-US" sz="2500" spc="-1" strike="noStrike">
                <a:solidFill>
                  <a:srgbClr val="006666"/>
                </a:solidFill>
                <a:latin typeface="Arial"/>
              </a:rPr>
              <a:t>BLACK</a:t>
            </a:r>
            <a:r>
              <a:rPr b="1" lang="zh-CN" sz="2500" spc="-1" strike="noStrike">
                <a:solidFill>
                  <a:srgbClr val="006666"/>
                </a:solidFill>
                <a:latin typeface="Verdana"/>
              </a:rPr>
              <a:t>）法律辞典将死亡定义为：“血液循环全部停止及由此导致的呼吸，脉搏等身体重要作用的终止。”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6666"/>
                </a:solidFill>
                <a:latin typeface="宋体"/>
              </a:rPr>
              <a:t>－死亡的社会本质定义：死亡是个体人与社会关系不可逆转的脱离和中断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12-18T15:10:57Z</dcterms:modified>
  <cp:revision>37</cp:revision>
  <dc:subject/>
  <dc:title>PowerPoint Presentation</dc:title>
</cp:coreProperties>
</file>