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A84-EFBE-41E6-8D34-1DEF6A1107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-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超声雾化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0CF-A287-4900-A92F-FAE5EF77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144-959E-4CE8-B44E-26319297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B15-407E-4A18-B9D7-ED9F33DB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008-18A7-4EB7-9505-C4616B75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7C5-1454-40EC-B238-ED280BE1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E84-F7F2-42F0-8700-E8267EC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5A7-C914-4AA2-BC42-6B3DCE7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B66-5B6E-4D98-8B9E-E792C62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F5C-AC44-4AB0-8D68-339A4FE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561-7F36-40A0-8543-9CF1A79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E59-B702-4084-94F5-058702D2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32F-624B-4D57-B8F0-6947296E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B96-77A2-44D6-9D5C-D4A31F4529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560;&#20837;&#27861;-&#38654;&#21270;&#21560;&#20837;&#27861;-&#23556;&#27969;&#24335;&#38654;&#21270;&#21560;&#20837;&#27861;.wm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3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4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5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6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7" Type="http://schemas.openxmlformats.org/officeDocument/2006/relationships/hyperlink" Target="file:///&#21560;&#20837;&#27861;-&#38654;&#21270;&#21560;&#20837;&#27861;-&#25163;&#21387;&#24335;&#38654;&#21270;&#21560;&#20837;&#27861;.wmv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560;&#20837;&#27861;-&#38654;&#21270;&#21560;&#20837;&#27861;-&#36229;&#22768;&#27874;&#38654;&#21270;&#21560;&#20837;&#27861;.wmv" TargetMode="External"/><Relationship Id="rId3" Type="http://schemas.openxmlformats.org/officeDocument/2006/relationships/hyperlink" Target="file:///&#21560;&#20837;&#27861;-&#38654;&#21270;&#21560;&#20837;&#27861;-&#36229;&#22768;&#27874;&#38654;&#21270;&#21560;&#20837;&#27861;.wmv" TargetMode="External"/><Relationship Id="rId4" Type="http://schemas.openxmlformats.org/officeDocument/2006/relationships/hyperlink" Target="file:///&#21560;&#20837;&#27861;-&#38654;&#21270;&#21560;&#20837;&#27861;-&#36229;&#22768;&#27874;&#38654;&#21270;&#21560;&#20837;&#27861;.wmv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节  雾化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氧气雾化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【定义】借助氧气高速气流，破坏药液表面张力，使药液形成雾状，随吸气进入呼吸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改善通气功能，解除支气管痉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预防、控制呼吸道感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稀释痰液，促进咳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病情、治疗情况、用药史，所用药物的药理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意识状态、对给药计划的了解、心理状态及合作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呼吸道是否感染、通畅，有无支气管痉挛、呼吸道黏膜水肿、痰液等；病人面部及口腔粘膜情况，有无感染、溃疡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计划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物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氧气雾化吸入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常用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其它用物：氧气装置、弯盘、治疗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检查氧气雾化吸入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准备药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核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调节氧气流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-8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始雾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结束雾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操作后处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严格执行查对制度，遵守消毒隔离制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使用前检查雾化器各部件是否完好，有无松动、脱落等异常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氧前湿化瓶内勿放水；用氧过程中注意安全，严禁接触烟火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和易燃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压缩时雾化吸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定义】利用压缩空气将药液变成细微的气雾（直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u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），使药液直接被吸入呼吸道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目的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计划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物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压缩雾化吸入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空气压缩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喷雾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含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用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能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压缩空气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药液表面张力破坏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细微雾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常用药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其他用物：纱布、治疗巾、弯盘、电源插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检查并连接雾化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核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铺治疗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始雾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束雾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后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使用前检查电源电压是否与压缩机吻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压缩机放置在平稳处，勿放于地毯或毛织物上等软物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治疗过程中密切观察患者的病情变化，出现不适可做适当休息或平静呼吸；如有痰液嘱患者咳出，不可咽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定期检查压缩机的空气过滤器内芯，喷雾器要定期清洗，发现喷嘴堵塞，应反复清洗或更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、手压式雾化吸入器雾化吸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定义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利用拇指按压雾化器顶部，使药液从喷嘴喷出，形成雾滴作用于口咽部、气管、支气管粘膜吸收的治疗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【目的】通过吸收药物以改善通气功能，解除支气管痉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定义】应用雾化装置将药液分散成细小的雾滴以气雾状喷出，经鼻或口吸入达到治疗效果的给药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优点】奏效快、药物用量小、不良反应轻，对呼吸道局部及全身都可产生治疗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常用方法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超声波雾化吸入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氧气雾化吸入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压缩雾化吸入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手压式雾化器雾化吸入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计划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物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压式雾化吸入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97240" y="1219320"/>
            <a:ext cx="4946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遵医嘱准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核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充分摇匀药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开始雾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结束雾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操作后处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喷雾器使用后放置阴凉处保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外壳定期清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使用前检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雾化器各部件是否完好，有无松动、脱落等异常情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药液随着深吸气的动作经口腔吸入，尽可能延长屏气时间，然后呼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每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喷，两次使用间隔时间不少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～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4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6"/>
              </a:rPr>
              <a:t>小时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超声雾化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【定义】应用超声波声能将药液变成细微的气雾，再由鼻或口吸入的方法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【优点】雾量大小可以调节，雾滴小而均匀，药液可随深而慢的吸气到达终末支气管和肺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湿化气道，改善通气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预防、控制呼吸道感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解除支气管痉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治疗肺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病情、治疗情况、用药史，所用药物的药理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意识状态、对给药计划的了解、心理状态及合作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病人呼吸道是否感染、通畅，有无支气管痉挛、呼吸道黏膜水肿、痰液等；病人面部及口腔粘膜情况，有无感染、溃疡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【计划】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物准备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超声雾化吸入器一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3997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构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超声波发生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水槽与晶体换能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雾化罐与透声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螺纹管和口含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面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360" y="134100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2760" y="1989000"/>
            <a:ext cx="99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频电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02320" y="2997360"/>
            <a:ext cx="117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超声波声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73600" y="4005360"/>
            <a:ext cx="117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罐内的药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3520" y="5084640"/>
            <a:ext cx="135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为细微雾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52880" y="5157720"/>
            <a:ext cx="117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入呼吸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4400" y="2492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体换能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79240" y="35733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透声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4440" y="4365720"/>
            <a:ext cx="9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药液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张力破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45280" y="5950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患者深吸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565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3500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45086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16360" y="537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27280" y="2781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00720" y="37893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44364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003640" y="5516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734080"/>
            <a:ext cx="5749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常用药物：根据评估情况及用药目的选择合适的药物加入生理盐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控制呼吸道感染，消除炎症：庆大霉素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解除支气管痉挛、减轻呼吸道粘膜水肿：氨茶碱、沙丁胺醇、地塞米松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稀释痰液，帮助祛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糜蛋白酶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其他用物：弯盘、冷蒸馏水、治疗巾、电源插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操作步骤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洗手、戴口罩检查雾化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连接雾化器主件与附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加冷蒸馏水于水槽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加药 于雾化罐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携用物至床旁，核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取舒适卧位，舖治疗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接通电源，定时，调节雾化量，观察水温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开始雾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结束雾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操作后处理：病人安置、用物处理、疗效观察、吸收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259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注意事项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严格执行查对制度，遵守消毒隔离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前检查雾化器各部件是否完好，有无松动、脱落等异常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水槽和雾化罐内切忌加温水或热水，水槽内无水时，不可开机，以免损坏机器。水槽须保持有足够的冷蒸馏水，如发现水温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水量不足，应关机，更换或加入冷蒸馏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水槽底部的晶体换能器和雾化罐底部的透声膜薄而质脆，易破碎，操作中注意不要损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连续使用雾化器时 中间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间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0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分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0-28T07:46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