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344-8B19-4FC4-9096-1973883F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4B4-C059-4858-8656-0572B317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D0E-2600-4D02-9F9D-5D4A7F50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BC9-6990-43EC-9094-18840C52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3ECD-CB5C-43DD-A52B-FDCD2DC6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F5AB-8870-4E4A-B8C7-B20B94B9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1599-58DE-49F4-BCB5-264BA726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0C63-FEE5-4218-80EA-E3428A89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D78B-7404-44FA-A2A8-157951E6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4F02-A0B0-4162-9F58-6B704109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4D0C-632C-40B9-A2D9-17A66AA2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80E-923A-45D1-974A-F104955D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F810-B767-429D-A829-D23928FF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B70F-D111-41D0-BA50-113E16F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DF85-5477-4019-9D57-527388CC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2694-55C7-4B53-91F8-05178CA7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D688-CFAB-4425-8960-C3E33F5C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484-7CE5-4340-B908-DFCBFF81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3BF-81DE-49DA-8427-4574A587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952-5F36-471D-8CD1-EB6CB08C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B3E-BC3F-4C59-B4B5-A4FCBA13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6A2-5CCB-4CDE-A9BD-BB17C794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A61-70F7-4106-9DB0-5FB21FCD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897-A51F-44AE-8AC0-39E4E328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3A4B-B5CA-4DBC-81D5-C8D17F83B6C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934C-510A-43BE-A465-319212CE2C3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270;9-1%20&#20912;&#34955;.jpg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270;9-2%20&#20912;&#34955;&#20351;&#29992;&#27861;.jpg" TargetMode="External"/><Relationship Id="rId3" Type="http://schemas.openxmlformats.org/officeDocument/2006/relationships/hyperlink" Target="file:///&#22270;9-2%20&#20912;&#34955;&#20351;&#29992;&#27861;.jpg" TargetMode="External"/><Relationship Id="rId4" Type="http://schemas.openxmlformats.org/officeDocument/2006/relationships/hyperlink" Target="file:///&#22270;9-3%20&#39048;&#37096;&#20919;&#25975;.jpg" TargetMode="Externa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270;9-4%20&#20912;&#24125;&#12289;&#20912;&#27133;.jpg" TargetMode="External"/><Relationship Id="rId3" Type="http://schemas.openxmlformats.org/officeDocument/2006/relationships/hyperlink" Target="file:///&#22270;9-4%20&#20912;&#24125;&#12289;&#20912;&#27133;.jpg" TargetMode="External"/><Relationship Id="rId4" Type="http://schemas.openxmlformats.org/officeDocument/2006/relationships/hyperlink" Target="file:///&#22270;9-4%20&#20912;&#24125;&#12289;&#20912;&#27133;.jpg" TargetMode="External"/><Relationship Id="rId5" Type="http://schemas.openxmlformats.org/officeDocument/2006/relationships/hyperlink" Target="file:///&#22270;9-4%20&#20912;&#24125;&#12289;&#20912;&#27133;.jpg" TargetMode="External"/><Relationship Id="rId6" Type="http://schemas.openxmlformats.org/officeDocument/2006/relationships/hyperlink" Target="file:///&#22270;9-4%20&#20912;&#24125;&#12289;&#20912;&#27133;.jpg" TargetMode="External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第九章  冷热疗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第一节     概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第二节     冷疗法的应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第三节     热疗法的应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减轻深部组织充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机制：热疗时皮肤血管扩张，使平时大量呈闭锁状态的动静脉吻合支开放，皮肤血流量增多。由于全身循环血量的重新分布，减轻深部组织的充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保暖与舒适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机制：热疗使局部血管扩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促进血液循环，将热带至全身，使体温升高，并使患者感到舒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适用于年老体弱、早产儿、危重、末梢循环不良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三  、影响冷、热疗法效果的因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面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时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温度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部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个体差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四、应用冷、热疗法的禁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一）冷疗的禁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局部血液循环不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慢性炎症或深部化脓病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对冷过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昏迷、感觉异常、体质虚弱、心脏病者应慎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959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冷疗的禁忌部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枕后、耳廓、阴囊处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以防冻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心前区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以防引起反射性心率减慢、心房或 心室纤颤、房室传导阻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腹部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以防腹泻、腹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足底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以防反射性末梢血管收缩影响散热或引起一过性冠状动脉收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二）热疗的禁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未明确诊断的急性腹痛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热疗虽能减轻疼痛，但易掩盖病情真相，贻误诊断和治疗，有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引发腹膜炎的危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面部危险三角区的感染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因该处血管丰富，面部静脉无静脉瓣，且与颅内海绵窦相通，热疗可使血管扩张，血流增多，导致细菌和毒素进入血循环，促进炎症扩散，造成严重的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颅内感染和败血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软组织损伤或扭伤的初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(48h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内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热疗可促进血液循环，血管通透性增加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加重皮下出血、肿胀、疼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细菌性结膜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用热使局部温度升高，有利于细菌繁殖和分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泌物增多而加重眼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出血性疾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热使血管扩张，加重出血倾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感觉功能损伤、意识不清的病人慎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可能造成烫伤，应严密监护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金属移植部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金属湿热的良好导体，用热易造成烫伤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第二节   冷疗法的应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局部冷疗法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冰袋（冰囊）的使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冰帽的使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冷湿敷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全身冷疗法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温水擦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乙醇擦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一、局部用冷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一）冰袋（冰囊）的使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目的】降温、止血、镇痛、消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年龄、病情体温及治疗情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局部皮肤状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意识状态、活动能力及合作程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第一节  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是利用低于或高于人体温度的物质作用于人体表面，通过神经传导引起皮肤和内脏器官的收缩和舒张，改变机体各系统体液循环和新陈代谢，达到治疗目的的方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计划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操作者准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用物准备    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冰袋（冰囊）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及布袋，帆布袋，冰，木槌，盆及冷水，毛巾，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患者准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环境准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【实施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、操作步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核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准备冰袋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备冰、装袋、驱气、检查、加套（装袋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/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/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满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携用物至床旁，再次核对解释，取得配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放置位置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高热：前额 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头顶部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体表大血管（颈部 腋窝 腹股沟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扁桃体摘除：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颈前颌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时间  不超过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0mi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观察  效果与反应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用物处理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记录  部位、时间、效果、反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注意事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⑴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用冷的时间正确，最长不得超过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分钟，休息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分钟后再使用，给予局部组织复原时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注意观察局部皮肤变化，每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钟一次，确保局部皮肤勿发紫、麻木及冻伤发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⑶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使用过程中，检查冰块融化情况，及时更换与添加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⑷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物理降温后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分钟重测体温并记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二）冰帽（冰槽）的使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目的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头部降温，防治脑水肿，减轻脑细胞损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年龄、病情、体温及治疗方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头部状况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意识状况、活动能力及合作程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计划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操作者准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用物准备   冰帽（冰槽）、帆布袋（木箱）、冰、木槌、盆及冷水、勺、海绵垫三块、水桶、肝表、冰槽降温时备不脱脂棉球及凡士林纱布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块、治疗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准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环境准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959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实施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操作步骤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核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备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再次核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头部置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冰帽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(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冰槽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)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中，后颈部、双耳廓垫海绵冰槽降温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双耳塞不脱脂棉球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双眼覆盖凡士林纱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将引水管置于水桶中，注意水流情况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观察  效果与反应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用物处理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记录  部位、时间、效果、反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注意事项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用冷的时间不超过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分钟，休息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分钟后可再次使用，给予局部组织复原时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每半小时测量生命体征一次，肛温不低于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0℃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观察头部皮肤，每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分钟查看一次局部皮肤颜色，尤其耳廓部位有无发紫、麻木和冻伤等情况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注意心率变化， 无房颤、室颤与房室传导阻滞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三）冷湿敷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【目的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降温，早期扭伤、挫伤的消肿、止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【评估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【计划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、操作者准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、用物准备   盆内乘冰水，治疗盘内放：弯盘、纱布、敷布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块、钳子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把，外放凡士林、棉签、一次性治疗巾、干毛巾，酌情备屏风，如有伤口，应准备换药盘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、病人准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、环境准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实施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操作步骤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核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患处准备  垫治疗巾，涂凡士林，盖纱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敷布  浸透，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Arial"/>
              </a:rPr>
              <a:t>拧敷布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至不滴水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时间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-3min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跟换一次，总时间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0 mi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用物处理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洗手、记录  部位、时间、效果、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注意事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注意观察局部皮肤变化，每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0 min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查看一次局部皮肤颜色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使用过程中，检查湿敷情况，及时更换敷布。如冷敷部位为开放性伤口，需按无菌技术处理伤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一、冷热疗法的效应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一）生理效应 表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9-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二）继发效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－ 用冷或用热超过一定时间，产生与生理效应相反作用的现象称为继发效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－作用  防御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－预防方法    用冷或用热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0min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后，应停止，给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 h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的复原时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二、全身冷疗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温水擦浴或乙醇擦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目的】为高热病人降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评估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计划】操作者准备、病人准备、环境准备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用物准备     盆内盛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2-34℃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温水三分之二满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大纱布垫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块、大浴巾、热水袋、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冰袋，酌情备衣物、大单、便器及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屏风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959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实施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操作步骤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核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松床尾、脱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华文行楷"/>
                <a:ea typeface="华文行楷"/>
              </a:rPr>
              <a:t>冰袋置头部，热水袋置足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拭浴方法  大毛巾垫拭浴部位下，小毛巾缠成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套状浸湿、挤干，边擦边按摩，最后大毛巾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拭浴温度、浓度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温水拭浴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华文行楷"/>
              </a:rPr>
              <a:t>3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华文行楷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华文行楷"/>
              </a:rPr>
              <a:t>34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乙醇拭浴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华文行楷"/>
              </a:rPr>
              <a:t>32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4℃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华文行楷"/>
              </a:rPr>
              <a:t>,25%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华文行楷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华文行楷"/>
              </a:rPr>
              <a:t>35%</a:t>
            </a:r>
            <a:r>
              <a:rPr b="1" lang="zh-CN" sz="2800" spc="-1" strike="noStrike">
                <a:solidFill>
                  <a:srgbClr val="003399"/>
                </a:solidFill>
                <a:latin typeface="华文行楷"/>
                <a:ea typeface="华文行楷"/>
              </a:rPr>
              <a:t>乙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温水拭浴或乙醇拭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华文行楷"/>
                <a:ea typeface="华文行楷"/>
              </a:rPr>
              <a:t>擦浴顺序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两上肢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颈外侧  肩  上臂外侧  前臂外侧  手背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侧胸   腋窝   上臂内侧     肘窝   前臂内侧     手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背腰部  肩部     背部      臀部。穿好衣服，脱去裤子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两下肢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髂骨   下肢外侧   足背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腹股沟   下肢内侧   内踝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臀下沟   大腿后侧   腘窝   足跟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擦至腋窝、肘窝、腹股沟、腘窝等</a:t>
            </a:r>
            <a:r>
              <a:rPr b="1" lang="zh-CN" sz="2400" spc="-1" strike="noStrike">
                <a:solidFill>
                  <a:srgbClr val="003399"/>
                </a:solidFill>
                <a:latin typeface="华文行楷"/>
                <a:ea typeface="华文行楷"/>
              </a:rPr>
              <a:t>体表大血管处用力擦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行楷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003399"/>
                </a:solidFill>
                <a:latin typeface="华文行楷"/>
                <a:ea typeface="华文行楷"/>
              </a:rPr>
              <a:t>拭并延长时间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，以促进散热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276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29718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29718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3276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3276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419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43434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47242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8006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1055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51055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51055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28954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29718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33526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33526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36576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6576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撤掉热水袋，穿裤子取舒适卧位，整理床单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整理用物，清洁消毒后放原位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洗手、记录     部位、时间、效果、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测温 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浴后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华文行楷"/>
              </a:rPr>
              <a:t>30min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测体温，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华文行楷"/>
              </a:rPr>
              <a:t>&lt; 39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℃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取下冰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注意事项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因全身冷疗面积较大，在给病人实施的过程当中，护士应密切观察病人反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安全擦浴，全过程不要超过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0min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，避免病人着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禁忌擦拭胸前区、腹部、后颈部、足心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注意病人的耐受性，擦浴后，应注意观察病人的皮肤表面有无发红、苍白、出血点及病人是否感觉异常。半小时后测量病人体温，如有下降则视为有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血液病病人和新生儿禁忌食用擦浴降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拭浴时，以拍拭（轻拍）方式进行，避免摩擦方式，因摩擦易生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二、冷热疗法的目的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一）冷疗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减轻局部出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机制：冷疗使局部血管收缩，血流减慢，血液的粘稠度增加，有利于血液凝固而控制出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用于：局部软组织损伤的损伤的初期、扁桃体摘除术后、鼻出血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8380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减轻疼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机制：冷疗可抑制细胞的活动，减慢神经冲动的传导，降低神经未梢的敏感性而减轻疼痛；冷疗使血管收缩，毛细血管的通透性降低，渗出减少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减轻由于组织肿胀压迫神经末梢引起的疼痛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用于：急性损伤初期、牙痛、烫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控制炎症扩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机制：冷疗使局部血管收缩，血流减少，细胞的新陈代谢和细菌的活力降低，限制炎症的扩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用于：炎症早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降低体温（降温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机制：冷直接与皮肤接触，通过传导与蒸发的物理作用，使体温降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用于：高热、中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二）热疗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促进炎症的消散和局限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机制：热疗使局部血管扩张，血液循环速度加快，促进组织中毒素、废物的排出；血量增多，白细胞数量增多，吞噬能力增强和新陈代谢增加，营养状态改善使机体局部或全身的抵抗力和修复力增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炎症早期用热，促进炎症吸收与消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炎症后期用热，促进炎症局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810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减轻疼痛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机制：热疗可降低痛觉神经兴奋性，改善血液循环，加速致痛物质排出和炎性渗出物吸收，解除对神经未梢的刺激和压迫，减轻疼痛；热疗使肌肉松弛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增强结缔组织伸展性，增加关节的活动范围，减少肌肉痉挛、僵硬，关节强直所致疼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6-15T10:58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