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125-49D2-475C-BA59-212E787F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E42-03F6-4026-8A62-DF3B179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101-DB2D-4095-9AA4-CB0B3FBC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7F8-FA76-44A7-A8BF-E1143156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247A-48DD-4A75-9A66-B77C6518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B436-A6DF-40BB-9C2F-30039633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B2F6-9A32-4B97-AF9F-B8B2E7BA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367E-DCB0-4AD7-A870-0B00BD11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FE66-9FDC-48A9-86AE-9B0F457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FD6A-8BA2-4ADB-8C6A-99BCACDC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5D92-110B-448F-AD34-7135079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465-4666-4AF8-B70E-F5E143D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A162-A38E-4654-959E-4CFBBF2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041B-CE22-4AEE-84B9-FDEF920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AF51-7B10-4F02-9969-8C7EC18E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B7B3-A89E-4F04-9ADE-AC2ECF0B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FAEE-9AEB-47B5-80DD-7060132F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7382-D424-422F-BCBF-E06C8736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834D-C7BF-4905-BE04-71F441B8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6AE8-B7AD-4CF6-997C-50541199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12A2-C888-4E26-AD16-CE7B6D94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0739-F50B-4FBF-9AF1-FC7727F6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0EF-0116-46D8-BBD7-BF6B2874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542B-5F18-4686-9AC5-3173429D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4DCA-442B-4367-B58D-14F47DD3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658F-499D-42C0-B9F4-1543566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73FD-03C3-4A3A-88B6-DDD93BB2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7771-BA8E-454C-9871-7B252A98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5EC2-715F-4F36-86F5-372A479A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D686-1C99-4D30-B07F-3D24A895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AA36-EF9E-41ED-A58A-BC1AAB97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845C-365A-4F70-963A-5C75FBE2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DD8A-8629-4C5F-8419-03CD3EA6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CAD-BAD2-4917-B75D-7600A256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8231-129C-4B5D-940A-EA474E87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3250-E8C1-4EE6-8F92-8CD7B934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6D51-FDA7-4628-981E-633B77E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7A6F-B0B1-4DAC-9317-3238AD65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F765-ED35-464A-8D8B-442E7B7F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C1A4-300B-4445-B66E-6387B7A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63BD-70BE-4D3A-98C1-D8CF1123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26ED-34C8-4A24-82D2-C2A8ABC5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1711-1DC4-4996-B566-797CE11B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452B-F146-41A7-9654-C7F7B495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69E-644D-45E6-A910-5F22EBAE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D12BE-000E-46D4-9915-457DD00E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B5709-D710-41C1-B831-6EEF36D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3B78F-0F72-4421-A0DA-F26BFD75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F0721-F361-401F-AA64-8FB0FB16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1564-5CBC-4A8E-984A-8E1082DE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98E0-2318-4C9E-A225-EB4D6AF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003D-64EC-47AF-BBBB-CDA96D70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82C3C-5023-422B-A5D8-6A7988E7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0E2BE-8206-4EFD-ADFB-FD4576EB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FE69-602E-4C16-AD2D-90900155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29C-7BC9-4212-BB9F-495C2D7B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0EC4-E44E-4C65-8719-8F356E1B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F08-176B-46A8-A3CA-903321ED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2F6-25C0-4C3A-A96C-6C5E52F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6B8-F52A-4E97-B1B5-29553FF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F643-F045-4A88-98DB-D9502EA3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2c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1440"/>
            <a:ext cx="2317680" cy="2057040"/>
            <a:chOff x="6934320" y="-1440"/>
            <a:chExt cx="2317680" cy="2057040"/>
          </a:xfrm>
        </p:grpSpPr>
        <p:sp>
          <p:nvSpPr>
            <p:cNvPr id="272" name="未知"/>
            <p:cNvSpPr/>
            <p:nvPr/>
          </p:nvSpPr>
          <p:spPr>
            <a:xfrm>
              <a:off x="7041600" y="-1440"/>
              <a:ext cx="2102760" cy="190764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5040"/>
              <a:ext cx="2317680" cy="2050560"/>
              <a:chOff x="6934320" y="5040"/>
              <a:chExt cx="2317680" cy="205056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504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5040"/>
                <a:ext cx="2317680" cy="205056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9120"/>
                <a:ext cx="186480" cy="214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6960"/>
                <a:ext cx="162720" cy="28800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81320"/>
                <a:ext cx="534960" cy="24156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532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6932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420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360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824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6136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9560"/>
                <a:ext cx="455040" cy="3646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3400"/>
                <a:ext cx="257400" cy="64872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1" marL="720720" indent="-2772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2" marL="1108440" indent="-2214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3" marL="1551960" indent="-2214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4" marL="1995480" indent="-2214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－</a:t>
            </a:r>
            <a:fld id="{CE75D247-D80A-49AB-8EC6-F280C66A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04640"/>
            <a:ext cx="8280360" cy="863640"/>
          </a:xfrm>
          <a:prstGeom prst="flowChartTerminator">
            <a:avLst/>
          </a:prstGeom>
          <a:solidFill>
            <a:srgbClr val="de39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237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基础护理学》配套多媒体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572000" y="2519280"/>
            <a:ext cx="4755960" cy="4338360"/>
            <a:chOff x="4572000" y="2519280"/>
            <a:chExt cx="4755960" cy="4338360"/>
          </a:xfrm>
        </p:grpSpPr>
        <p:sp>
          <p:nvSpPr>
            <p:cNvPr id="332" name="未知"/>
            <p:cNvSpPr/>
            <p:nvPr/>
          </p:nvSpPr>
          <p:spPr>
            <a:xfrm>
              <a:off x="4800240" y="251928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4572000" y="251928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702040" y="455904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5351760" y="474516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5141160" y="352692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385680" y="497376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8197920" y="413604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8466120" y="410400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8442000" y="442080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7921080" y="470520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8043480" y="496584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7986960" y="515232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8596800" y="484344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6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991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－</a:t>
            </a:r>
            <a:fld id="{0557C9E3-CC2D-443A-A88A-E59A60D0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rcRect l="2743" t="18848" r="87017" b="23801"/>
          <a:stretch/>
        </p:blipFill>
        <p:spPr>
          <a:xfrm>
            <a:off x="5219640" y="1484280"/>
            <a:ext cx="649440" cy="5493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24000" y="692280"/>
            <a:ext cx="8640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文彩云"/>
              </a:rPr>
              <a:t>《基础护理学》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第四版配套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主编  尚少梅 李小寒                 人民卫生出版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2c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34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80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94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708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722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36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50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934320" y="-1440"/>
            <a:ext cx="2317680" cy="2057040"/>
            <a:chOff x="6934320" y="-1440"/>
            <a:chExt cx="2317680" cy="2057040"/>
          </a:xfrm>
        </p:grpSpPr>
        <p:sp>
          <p:nvSpPr>
            <p:cNvPr id="764" name="未知"/>
            <p:cNvSpPr/>
            <p:nvPr/>
          </p:nvSpPr>
          <p:spPr>
            <a:xfrm>
              <a:off x="7041600" y="-1440"/>
              <a:ext cx="2102760" cy="190764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6934320" y="5040"/>
              <a:ext cx="2317680" cy="2050560"/>
              <a:chOff x="6934320" y="5040"/>
              <a:chExt cx="2317680" cy="2050560"/>
            </a:xfrm>
          </p:grpSpPr>
          <p:sp>
            <p:nvSpPr>
              <p:cNvPr id="766" name="未知"/>
              <p:cNvSpPr/>
              <p:nvPr/>
            </p:nvSpPr>
            <p:spPr>
              <a:xfrm>
                <a:off x="7045200" y="504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>
                <a:off x="6934320" y="5040"/>
                <a:ext cx="2317680" cy="205056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>
                <a:off x="7485120" y="969120"/>
                <a:ext cx="186480" cy="214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未知"/>
              <p:cNvSpPr/>
              <p:nvPr/>
            </p:nvSpPr>
            <p:spPr>
              <a:xfrm>
                <a:off x="7314120" y="1056960"/>
                <a:ext cx="162720" cy="28800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未知"/>
              <p:cNvSpPr/>
              <p:nvPr/>
            </p:nvSpPr>
            <p:spPr>
              <a:xfrm>
                <a:off x="7211520" y="481320"/>
                <a:ext cx="534960" cy="24156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未知"/>
              <p:cNvSpPr/>
              <p:nvPr/>
            </p:nvSpPr>
            <p:spPr>
              <a:xfrm>
                <a:off x="7818120" y="116532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>
                <a:off x="8701200" y="76932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>
                <a:off x="8831880" y="75420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>
                <a:off x="8820360" y="90360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未知"/>
              <p:cNvSpPr/>
              <p:nvPr/>
            </p:nvSpPr>
            <p:spPr>
              <a:xfrm>
                <a:off x="8566200" y="103824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未知"/>
              <p:cNvSpPr/>
              <p:nvPr/>
            </p:nvSpPr>
            <p:spPr>
              <a:xfrm>
                <a:off x="8625960" y="116136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未知"/>
              <p:cNvSpPr/>
              <p:nvPr/>
            </p:nvSpPr>
            <p:spPr>
              <a:xfrm>
                <a:off x="8598600" y="1249560"/>
                <a:ext cx="455040" cy="3646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未知"/>
              <p:cNvSpPr/>
              <p:nvPr/>
            </p:nvSpPr>
            <p:spPr>
              <a:xfrm>
                <a:off x="8895600" y="1103400"/>
                <a:ext cx="257400" cy="64872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1" marL="720720" indent="-2772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2" marL="1108440" indent="-2214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3" marL="1551960" indent="-2214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4" marL="1995480" indent="-2214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－</a:t>
            </a:r>
            <a:fld id="{D47CBD0E-6113-425E-84C5-08601004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6237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基础护理学》配套多媒体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572000" y="2519280"/>
            <a:ext cx="4755960" cy="4338360"/>
            <a:chOff x="4572000" y="2519280"/>
            <a:chExt cx="4755960" cy="4338360"/>
          </a:xfrm>
        </p:grpSpPr>
        <p:sp>
          <p:nvSpPr>
            <p:cNvPr id="823" name="未知"/>
            <p:cNvSpPr/>
            <p:nvPr/>
          </p:nvSpPr>
          <p:spPr>
            <a:xfrm>
              <a:off x="4800240" y="251928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4572000" y="251928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5702040" y="455904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5351760" y="474516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5141160" y="352692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6385680" y="497376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8197920" y="413604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8466120" y="410400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8442000" y="442080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7921080" y="470520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8043480" y="496584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7986960" y="515232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8596800" y="484344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37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991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dt" idx="1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E312-AF2B-42B2-B8E0-F99B2C90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3"/>
          <a:srcRect l="2743" t="18848" r="87017" b="23801"/>
          <a:stretch/>
        </p:blipFill>
        <p:spPr>
          <a:xfrm>
            <a:off x="5219640" y="1484280"/>
            <a:ext cx="649440" cy="54936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24000" y="692280"/>
            <a:ext cx="8640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文彩云"/>
              </a:rPr>
              <a:t>《基础护理学》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第四版配套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主编  尚少梅 李小寒                 人民卫生出版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2270;10-2&#39135;&#29289;&#25918;&#32622;&#24179;&#38754;&#22270;.jpg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2270;10-1&#21512;&#29702;&#27491;&#24120;&#33203;&#39135;.jpg" TargetMode="External"/><Relationship Id="rId3" Type="http://schemas.openxmlformats.org/officeDocument/2006/relationships/hyperlink" Target="&#39135;&#30103;.do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34920;10-6&#40763;&#39282;&#27861;&#25805;&#20316;&#27493;&#39588;.doc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34920;10-5&#19981;&#21516;&#33829;&#20859;&#29366;&#20917;&#30340;&#36523;&#20307;&#24449;&#35937;.doc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十章    饮食与营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   营养与健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    医院饮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     饮食护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确保病人感觉舒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助患者排便，去除不良气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助患者洗手及清洁口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助患者采取舒适的进餐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治疗巾或餐巾围于患者胸前，并使患者做好进食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病人进食时的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及时分发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鼓励并协助病人自行进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目失明或眼睛被遮盖：按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时钟平面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置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及时处理病人在进食过程中特殊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健康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病人进食后的护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理床单位、饭后洗手、漱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餐后根据需要做好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暂需禁食或延迟进食的患者应做好交接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管饲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昏迷病人，或因消化道疾病如肿瘤、食管狭窄，以及颅脑外伤等不能由口进食者，为保证其能摄入足够的蛋白质和热量，可通过导管供给营养丰富的流质饮食或营养液，此种方法称为鼻饲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常用的管饲饮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混合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：牛奶、豆浆、鸡蛋、糖、盐等物质加工混合制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用对象：脑血管疾患所致意识不清者及需高蛋白而不能经口进食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匀浆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：采用天然食物经捣碎并搅拌后制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用对象：肠道功能正常的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要素饮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：是一种化学精制食物，含有全部人体所需的易于吸收的营养成分，，包括游离氨基酸、单糖，主要脂肪酸、维生素、无机盐类和微量元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用对象：危重病人或胃肠道疾病，严重感染、重度烧伤及肿瘤等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）应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喂养导管远端放置的位置，可分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胃内管饲（导管的远端位于胃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分次注入：经注射器每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-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每次不超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歇滴注：经输注管每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每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0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每次输注持续时间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连续滴注：经输注管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内持续滴入营养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肠内管饲（导管的远端位于肠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鼻饲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的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胃管供给食物和药物，保证病人摄入足够的热能、蛋白质等多种营养素，满足其对营养和治疗的需要，促进康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【适应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昏迷病人或不能经口进食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能张口的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拒绝进食的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早产儿及病情危重的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【评估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人的病情及治疗情况，是否能承受插入导管的刺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人的心理状态与合作程度，如既往有无鼻饲的经历，是否紧张，是否了解插管的目的及是否愿意配合插胃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人鼻腔粘膜有无肿胀、炎症，有无鼻中隔偏曲，有无鼻息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66560" y="-22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划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操作者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物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无菌治疗巾内置：消毒胃管、压舌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射器，治疗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（分别盛有鼻饲液和温开水、温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8-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镊子或止血钳、纱布、棉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无菌治疗巾外置：手套、润滑油、胶布、别针、听诊器、调节夹或橡皮圈、弯盘、卫生纸、治疗巾或餐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人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环境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节   营养与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营养对人体健康的重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饮食与营养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营养与疾病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事物的种类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病人的饮食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禁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病人当前营养状况的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营养支持在临床综合治疗中的重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食时间应有规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注意口腔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烹调食物或储存食物需达到良好的清洁标准，预防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-67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4773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实施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操作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插入胃管会给病人带来很大的心理压力，护患之间必须进行有效的沟通，让病人及家属理解该操作的目的及安全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插管动作要轻稳，镊子的尖端勿触及病人鼻粘膜，以免造成疼痛和损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插管过程中如病人出现剧烈恶心、呕吐，可暂停插入，嘱病人做深呼吸，如病人出现咳嗽、呼吸困难、发绀等现象，表明胃管插入气管，应立即拔出，休息后再重新插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插入不畅时检查口腔，了解胃管是否盘在口咽部，或将胃管拔出少许，在缓慢插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每次鼻饲量不应超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间隔时间不少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鼻饲液的温度应保持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8-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药片应研碎，溶解后灌入。若灌入新鲜果汁，应与奶液分别灌入，防止产生凝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长期鼻饲者应每天进行口腔护理，普通胃管每周更换一次，硅胶管每月更换一次，聚氨酯胃管放置的时间可长达两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更换胃管时应于当晚最后一次灌食后拔出，翌日晨从另一侧鼻孔插入胃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已配置好的溶液应放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下的冰箱内保存，保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用完，防止放置时间过长而变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注入鼻饲液的速度不宜过快或过慢，以免引起病人不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食管静脉曲张、食管梗阻的患者禁忌使用鼻饲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评价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操作方法正确，动作轻柔，无黏膜损伤、出血及其他并发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人理解插管意义并能主动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确保插管于正确位置，无脱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管胃饮食清洁，温度适宜，保证病人基本营养、药物及水分的摄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拔管后病人无不适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节   医院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sp>
          <p:nvSpPr>
            <p:cNvPr id="1030" name="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Arial"/>
                </a:rPr>
                <a:t>医院饮食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Arial"/>
                </a:rPr>
                <a:t>基本饮食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"/>
            <p:cNvCxnSpPr>
              <a:stCxn id="1031" idx="0"/>
              <a:endCxn id="1030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3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3" name="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Arial"/>
                </a:rPr>
                <a:t>治疗饮食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4" name=""/>
            <p:cNvCxnSpPr>
              <a:stCxn id="1033" idx="0"/>
              <a:endCxn id="1030" idx="2"/>
            </p:cNvCxnSpPr>
            <p:nvPr/>
          </p:nvCxnSpPr>
          <p:spPr>
            <a:xfrm flipH="1" flipV="1" rot="5400000">
              <a:off x="4109040" y="3848760"/>
              <a:ext cx="905400" cy="1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5" name="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Arial"/>
                </a:rPr>
                <a:t>试验饮食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6" name=""/>
            <p:cNvCxnSpPr>
              <a:stCxn id="1035" idx="0"/>
              <a:endCxn id="1030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39976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一、</a:t>
            </a:r>
            <a:r>
              <a:rPr b="1" lang="zh-CN" sz="2800" spc="-1" strike="noStrike" u="sng">
                <a:solidFill>
                  <a:srgbClr val="e40000"/>
                </a:solidFill>
                <a:uFillTx/>
                <a:latin typeface="华文行楷"/>
                <a:ea typeface="华文行楷"/>
              </a:rPr>
              <a:t>基本饮食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</a:rPr>
              <a:t>(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basic diet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－适合于一般病人，对营养素的种类、摄入量不做限定性调整的一种饮食。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2800" spc="-1" strike="noStrike" u="sng">
                <a:solidFill>
                  <a:srgbClr val="e40000"/>
                </a:solidFill>
                <a:uFillTx/>
                <a:latin typeface="华文行楷"/>
                <a:ea typeface="华文行楷"/>
              </a:rPr>
              <a:t>治疗饮食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therapeutic diets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－是指在基本饮食的基础上，根据病情需要，适当调整总热能和营养素，以适应病情需要，从而达到辅助治疗目的的一类饮食。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三、</a:t>
            </a:r>
            <a:r>
              <a:rPr b="1" lang="zh-CN" sz="2800" spc="-1" strike="noStrike" u="sng">
                <a:solidFill>
                  <a:srgbClr val="e40000"/>
                </a:solidFill>
                <a:uFillTx/>
                <a:latin typeface="华文行楷"/>
                <a:ea typeface="华文行楷"/>
              </a:rPr>
              <a:t>试验饮食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test diet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－是指在特定的时间内，通过对饮食内容的调整，协助诊断疾病和提高实验室检查结果正确性的一种饮食。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72960" cy="3618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373320" cy="36180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6443640" y="2924280"/>
            <a:ext cx="372960" cy="3618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2"/>
          <p:cNvSpPr>
            <a:spLocks noGrp="1"/>
          </p:cNvSpPr>
          <p:nvPr>
            <p:ph type="title"/>
          </p:nvPr>
        </p:nvSpPr>
        <p:spPr>
          <a:xfrm>
            <a:off x="298440" y="-11520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节  饮食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营养的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影响饮食和营养的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生理因素：年龄、活动量、特殊生理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心理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社会文化因素：经济状况、饮食习惯、营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理因素：疾病与外伤、食物过敏与不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、药物的使用与饮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67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饮食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般饮食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食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无其它影响营养需要和饮食摄入的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身体营养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测量身高、体重、皮脂厚度等数值与正常值做比较，进行营养状况的评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身高、体重：反应营养物质的摄入、利用和储存情况，也反应机体肌肉、内脏的发育和潜在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标准体重的计算公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我国常用的标准体重的计算公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c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公式的改良公式：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－男性：标准体重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身高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－女性：标准体重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身高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实测体重占标准体重的百分数计算公式：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187280" y="4797360"/>
            <a:ext cx="5293080" cy="1170000"/>
            <a:chOff x="1187280" y="4797360"/>
            <a:chExt cx="5293080" cy="1170000"/>
          </a:xfrm>
        </p:grpSpPr>
        <p:pic>
          <p:nvPicPr>
            <p:cNvPr id="1050" name="" descr=""/>
            <p:cNvPicPr/>
            <p:nvPr/>
          </p:nvPicPr>
          <p:blipFill>
            <a:blip r:embed="rId2"/>
            <a:stretch/>
          </p:blipFill>
          <p:spPr>
            <a:xfrm>
              <a:off x="1187280" y="4797360"/>
              <a:ext cx="396072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"/>
            <p:cNvSpPr/>
            <p:nvPr/>
          </p:nvSpPr>
          <p:spPr>
            <a:xfrm>
              <a:off x="5287680" y="5227920"/>
              <a:ext cx="11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100%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2" name="" descr=""/>
          <p:cNvPicPr/>
          <p:nvPr/>
        </p:nvPicPr>
        <p:blipFill>
          <a:blip r:embed="rId3"/>
          <a:stretch/>
        </p:blipFill>
        <p:spPr>
          <a:xfrm>
            <a:off x="8101080" y="5734080"/>
            <a:ext cx="6570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皮脂厚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量上臂三头肌部，其标准是：男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㎜，女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对毛发、皮肤、指甲、骨骼肌肉、消化系统、神经系统、循环系统等方面的评估，来了解病人的基本营养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状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实验室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病人一般饮食的护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病区饮食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确定饮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更改饮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病人进食前的护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食物的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提供舒适的进食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食前暂停非紧急的治疗及护理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屏风遮挡病室内危重或呻吟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理床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备多人共同进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0:44:28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05</vt:lpwstr>
  </property>
</Properties>
</file>